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50431"/>
        <c:axId val="82733455"/>
      </c:barChart>
      <c:catAx>
        <c:axId val="12550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33455"/>
        <c:crosses val="autoZero"/>
        <c:auto val="1"/>
        <c:lblAlgn val="ctr"/>
        <c:lblOffset val="100"/>
        <c:noMultiLvlLbl val="0"/>
      </c:catAx>
      <c:valAx>
        <c:axId val="82733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50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02E4-2783-446A-A0DD-BDBD1EDF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BD8-1B41-44CB-8B78-AA42D44E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BCC-2562-42B9-B88E-903CA613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EB0-2663-41E6-BC3B-0678B0CC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6487-5B28-4D2A-A5BF-70BDE6DD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C09-B46A-439E-A3FF-143DAE11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34E-52E8-4B74-979C-08DF0C04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B28-53EA-4F79-AED0-5FF810D9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861-1F89-4807-97F8-A0FC8E18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C8F-4DFB-4F0B-8858-BAB43FBC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9C36-214D-45BD-8C73-6F9F3801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9D50-BAAF-45C6-9A66-46500AB2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B7180-F427-4238-B1CD-95DF42AA1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