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7479229"/>
        <c:axId val="40354107"/>
      </c:barChart>
      <c:catAx>
        <c:axId val="2747922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0354107"/>
        <c:crosses val="autoZero"/>
        <c:auto val="1"/>
        <c:lblAlgn val="ctr"/>
        <c:lblOffset val="100"/>
        <c:noMultiLvlLbl val="0"/>
      </c:catAx>
      <c:valAx>
        <c:axId val="4035410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47922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08626-251B-415D-BA96-ECD50A64F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BD0DB-CF3E-4BE3-A795-7A341B9A3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5A61C-5D99-42E3-AB1F-DFDBBB19F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4CDC1-B239-4F86-A4FF-0FDD0DFC4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94522-842D-433D-B33B-C3BC043EC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6287E-F163-4E10-8881-86F244C63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2872D-4880-4D79-9109-BF9C7C663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B878D-C9A5-4182-9B18-E381BACB0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33D28-F158-4154-A2B7-A0FFF6AAB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8F5E0-735B-4982-BD5C-37E3CA9D6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E973F-C50D-4B56-84B9-880006D8B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865C2-65AE-493C-93CF-A48F6981B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7AF8EA-E7CC-47C2-B51E-1029DE5E6AD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