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8187"/>
        <c:axId val="53007143"/>
      </c:barChart>
      <c:catAx>
        <c:axId val="3048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07143"/>
        <c:crosses val="autoZero"/>
        <c:auto val="1"/>
        <c:lblAlgn val="ctr"/>
        <c:lblOffset val="100"/>
        <c:noMultiLvlLbl val="0"/>
      </c:catAx>
      <c:valAx>
        <c:axId val="53007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8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7B3-2CAE-445A-BB5C-2E7F9624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AEE-04C7-4D77-9751-D72D40B9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531-B25A-4B6F-B816-74A3CBAA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9F0-E96E-488C-843F-E7769D72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2B4-B686-451A-B335-27A430C4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AB7-FFD7-4CF7-B03D-00F1B7AA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94C-EFDA-4313-8338-83FAB568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017-87A0-466A-A185-DF46A3F8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53B-5E5E-48F7-A59B-9144E823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36C-794C-41AA-9B60-466E32F5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1A5-1E72-443E-A5FE-39D5D4ED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335-8600-4CC9-B0C5-AD470E80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98208-4448-4786-9BD6-95E58203CF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