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19830"/>
        <c:axId val="31215474"/>
      </c:barChart>
      <c:catAx>
        <c:axId val="677198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15474"/>
        <c:crosses val="autoZero"/>
        <c:auto val="1"/>
        <c:lblAlgn val="ctr"/>
        <c:lblOffset val="100"/>
        <c:noMultiLvlLbl val="0"/>
      </c:catAx>
      <c:valAx>
        <c:axId val="31215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198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524C-0647-4061-95AF-605105E0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0F4-6CD4-4534-8357-DD3F9719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C8AB-0030-40AB-8CE0-592E0510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910-AAC8-4A8C-8742-0F28FFF3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35F9-DF40-4BFA-9001-060CB0D2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32F-A91F-4AAF-B5BD-0130178A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C5D-9AB5-4C38-BFFB-810E8444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5F8-9B70-460A-8F64-9B3D99D3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87AB-FB98-4EDA-872B-2CE319B5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EB1-40C5-4539-AD86-2AA07B8F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D22-C1AC-4CA9-8822-1D0BCF8F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530-237D-44E0-9C1E-15683D35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02077-A43E-456A-9922-43E5C5822F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