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75f80"/>
                </a:gs>
                <a:gs pos="50000">
                  <a:srgbClr val="d989b8"/>
                </a:gs>
                <a:gs pos="100000">
                  <a:srgbClr val="975f8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4430880" y="6485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38EE378F-37FD-4C09-8A3C-325F54860C7E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88E04337-9C05-4018-BC98-ABBF7EDF88C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Backup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ngle Backup Coord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letes each phase before moving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ges entire backup to local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wo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re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Size and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more than 2GB per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p to 11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0 minutes cl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5 hours remote dump (200K/s) (pma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 hours writing to tape (160K/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80K/s remote dump P6-&gt;P6, old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800K/s FTP P6-&gt;P6, new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ging area fills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GB/night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fficult to restore from t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rrent speeds and size will not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s ancient version of ‘tar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w Backup System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da Inter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tter support for incremental 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intain lists of backed up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w Backup System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ter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uble buffer “staging”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ose structure on 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intain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le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backup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ch tapes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nticipated Size and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6 - 20 GB on full bac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DAT drive, claims 1 - 2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 Eth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rrent speed of ~800K/s -&gt; ~6 hour d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isadvantages of New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iled backups will not be in staging area... ...But are resta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tape form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T Vs Exa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dvantages of New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utomated re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s ‘modern’ backup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.E. D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da</dc:creator>
  <dc:description/>
  <dc:language>en-US</dc:language>
  <cp:lastModifiedBy>Coda</cp:lastModifiedBy>
  <cp:revision>0</cp:revision>
  <dc:subject/>
  <dc:title>Current Backup System</dc:title>
</cp:coreProperties>
</file>