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8120" cy="6555240"/>
          </a:xfrm>
          <a:custGeom>
            <a:avLst/>
            <a:gdLst/>
            <a:ahLst/>
            <a:rect l="0" t="0" r="r" b="b"/>
            <a:pathLst>
              <a:path w="24717" h="18209">
                <a:moveTo>
                  <a:pt x="24717" y="9424"/>
                </a:moveTo>
                <a:lnTo>
                  <a:pt x="15293" y="0"/>
                </a:lnTo>
                <a:lnTo>
                  <a:pt x="13591" y="0"/>
                </a:lnTo>
                <a:lnTo>
                  <a:pt x="23870" y="10271"/>
                </a:lnTo>
                <a:lnTo>
                  <a:pt x="23553" y="10593"/>
                </a:lnTo>
                <a:lnTo>
                  <a:pt x="12961" y="0"/>
                </a:lnTo>
                <a:lnTo>
                  <a:pt x="9569" y="0"/>
                </a:lnTo>
                <a:lnTo>
                  <a:pt x="21859" y="12286"/>
                </a:lnTo>
                <a:lnTo>
                  <a:pt x="19897" y="14245"/>
                </a:lnTo>
                <a:lnTo>
                  <a:pt x="5662" y="0"/>
                </a:lnTo>
                <a:lnTo>
                  <a:pt x="3752" y="0"/>
                </a:lnTo>
                <a:lnTo>
                  <a:pt x="18945" y="15193"/>
                </a:lnTo>
                <a:lnTo>
                  <a:pt x="18151" y="15991"/>
                </a:lnTo>
                <a:lnTo>
                  <a:pt x="2165" y="0"/>
                </a:lnTo>
                <a:lnTo>
                  <a:pt x="0" y="0"/>
                </a:lnTo>
                <a:lnTo>
                  <a:pt x="0" y="2275"/>
                </a:lnTo>
                <a:lnTo>
                  <a:pt x="15928" y="18209"/>
                </a:lnTo>
                <a:lnTo>
                  <a:pt x="24717" y="9424"/>
                </a:lnTo>
                <a:close/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b3c2f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2160" y="6486480"/>
            <a:ext cx="15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am@cs.cm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165560" y="6486480"/>
            <a:ext cx="81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/25/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693280" y="6486480"/>
            <a:ext cx="358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7ED5D603-C4D9-46FB-A59B-511FF4564E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ing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uthenticated connection is established Srv attaches the CPS to the ClientEntry it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_XX_Semantics compare ACL’s against CPS and give yes/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ittle bugs: keys not nulled out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 connection not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userid to Vice should be trans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 heck is a “pcf”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adding users all but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for improving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 doesn’t work like in AFS. It clears the existing to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: re-integration, hoarding and disconnection make token handling mor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adds “moose” access in addition to  existing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da set ACL’s to achiev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find username, and pdb record in constant time from uid, log time fro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betically sorted list of null terminated user/group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of offsets of strings, pdb records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Users/ 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d2pdb is a hack to get the ball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now has a pts server to modify the .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“au” can modify the password file not the 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: a pd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 server must remain supe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pdb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 is interpreted by lex to get the CP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: precompute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’s can become very large, so can pcf file which is held in server vm: no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modification of pdb, Srv must be notified to refetch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secur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ntrol and Protec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emulation on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Connections in RP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routine can be passed and encryp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types of connections can be establ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Kimono: not authenticated,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nly: authenticated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sOnly: authenticated, headers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: authenticated and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ham Schroede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28800"/>
            <a:ext cx="77724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&amp; server share a secret (session or handshake key) for encryption/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decryption of packets with this secret established ide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: secure authenticated connections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How to get shared secr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da has Needham-Schroeder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2 Exchange at bin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3880" y="3097080"/>
            <a:ext cx="857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35920" y="3097080"/>
            <a:ext cx="92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54080" y="1878120"/>
            <a:ext cx="283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Id, E[Xr, 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2438280"/>
            <a:ext cx="530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54480" y="1260360"/>
            <a:ext cx="27273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KC: handshak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,Yr: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A,K] A encrypted with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14520" y="342900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02000" y="2944800"/>
            <a:ext cx="2536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Xr+1,Yr),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9720" y="4572000"/>
            <a:ext cx="5153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4520" y="579132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06720" y="4011480"/>
            <a:ext cx="1935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Yr+1,HC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2000" y="5307120"/>
            <a:ext cx="2306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SK,n0), HK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40280" y="4765680"/>
            <a:ext cx="29811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: session ke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cryptio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: random number for 1st p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te goal: Venus and Vice share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&amp; auth2 server share a secret if user knows his password =&gt; secure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s are stored encrypted on server (“dreuss “) to avoid “accid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2 returns ticket to clog, clog gives it to Venus (using pioct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us re-establishes all connections with 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v shares the auth2.tk key with auth2: it can decrypt the ticket which Venus can s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tic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 = (clear token, secret to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tokens contain: (session key, viceid, timestamps for valid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token for client: unencrypted (must be sent securely e.g. by auth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token: encrypted with secret shared by auth2/Srv (the key in auth2.tk). Can be sent unencrypted over th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ecret token as clientid, then Client and server share a sec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ro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icket Granting Ticket (TGT), using k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TGT for ticket for a service ticket with the Ticket Granting Server (T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could easily use 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ime of first connection, Venus fetches a ticket from TGS for Srv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 with Kerberos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 how TGS and Srv can share a secret, probably /etc/srv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, users, membership &amp; ownership relations: in “vice.pdb”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L granting rights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: current protection subdomain (CPS): CPS of a user/group is set of all groups to which she belongs directly or indirectly (can be precomputed from .p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Peter Braam</cp:lastModifiedBy>
  <cp:revision>0</cp:revision>
  <dc:subject/>
  <dc:title>Coda Security</dc:title>
</cp:coreProperties>
</file>