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2BFDFC75-15A1-40A3-8DE7-99E9C7A76F87}"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5488FCA9-4B28-416B-A11A-C28A2E904C1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12F1318-3B8F-4F83-B828-F7C47A306C7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9D59874F-645A-4462-BE54-7EBCE0481A1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171F8149-968D-44B8-98F8-6F0ABE440FBD}" type="datetime">
              <a:rPr b="0" lang="en-US" sz="1100" spc="-1" strike="noStrike">
                <a:solidFill>
                  <a:srgbClr val="064308"/>
                </a:solidFill>
                <a:latin typeface="Arial"/>
              </a:rPr>
              <a:t>07/31/26</a:t>
            </a:fld>
            <a:r>
              <a:rPr b="0" lang="en-US" sz="1100" spc="-1" strike="noStrike">
                <a:solidFill>
                  <a:srgbClr val="064308"/>
                </a:solidFill>
                <a:latin typeface="Arial"/>
              </a:rPr>
              <a:t>, </a:t>
            </a:r>
            <a:r>
              <a:rPr b="0" lang="en-US" sz="1100" spc="-1" strike="noStrike">
                <a:solidFill>
                  <a:srgbClr val="064308"/>
                </a:solidFill>
                <a:latin typeface="Arial"/>
              </a:rPr>
              <a:t>Slide </a:t>
            </a:r>
            <a:fld id="{E5DCA97B-6B14-4169-BBCD-E405B9D72C3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A85CD57-D0F7-444F-9799-A090A671EF0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