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78A0A-41DC-49D6-B4D0-6CD3C7D9CB8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E3A06-F8BB-48BD-8C9B-AD0EE75170B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531C0-9F8B-4F49-9735-F20B1162EAE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FD5BD-3681-4D33-991C-E1E33AB4242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66D9F-B634-4AFD-8C63-FC5A174E5E7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9CC5-D013-4C63-BC42-933E8A95DCD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0669-20FB-4A7D-BCA7-56790EF144C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BBFFD-107C-4E9E-A277-B935617D94B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EFE52-7438-4599-BCE3-94A45D172BE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8B884-3084-40C1-9DF7-6F12BD6D6B5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4EB55-3BC0-4A63-BAD7-2E9DCB6D3E4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6220F-4C18-41C4-A1CA-B3108780D56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DCD45-865D-436D-8996-1EBD636395D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9F4A2-1F21-4283-AD57-4BCD9A6B1A2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FD17-5FB5-4315-B34D-270449DCB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9F5C-C6C6-4FAA-BB9C-5827FBE3E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64CF-9F83-45FD-A9D7-5BD2F1288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940B-9B2D-4817-848D-68DC6582D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B084-3D0A-485E-A5D8-509C50804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166B-B100-4E64-A5FF-50EC15449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8080-93B8-44FB-99A1-5805350F5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ACD4-A496-4976-B7C4-CCF0CE814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6255-1124-4AC8-878D-6E73268E2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EDF4-9FB1-4F74-AB06-E4EAAC91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25C0-B2C5-4E56-9EFB-1CA77D7C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AF78-EE05-4D09-866D-CBE8B78C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2BCBA-7B7E-4A7A-9BCE-F34B3EAC68A8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9:54Z</dcterms:modified>
  <cp:revision>19</cp:revision>
  <dc:subject/>
  <dc:title>Tcl/Tk Mature but Evolving Dynamic Language</dc:title>
</cp:coreProperties>
</file>