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D6B8-0784-4AA7-BFFB-DBCCB7D64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7551-FF9E-4A67-BB84-21CC6B6FE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C146-30A7-4091-9317-BC752FE7C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0F05-5B57-4FAE-BA7C-87E664C49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CAC846-32C3-4735-B26C-BE3F8B0AFC9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B0EE40-4E15-43AC-AAEB-EAEBC8A5000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BEA963-C297-403F-8CAE-49CFE6402D4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A0A9CC-9461-422F-A056-87031785450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E7328B-6420-48FA-921A-2FA14E757D9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E9D7FA-43EC-44EC-99D9-15CCE933D2D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2F9551-46DA-479E-89F8-3CC1A1F27F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16D2-DE51-4275-A08D-22B5BD00F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922938-C669-43AD-94BF-0AC415C9A48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22B103-E323-4EF4-90DB-2577CC9E707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ACD68E-C7FE-4536-8824-DEF9BE58C94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37E714-7F30-4178-A40F-E5ACF42FEE1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748760-ACBD-4F3F-851F-AFFE53C9DB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4639-F6D4-4EBD-BB80-0BD4E75CE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B588-3FB3-4B4A-AC27-7EEFF8EFB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98F7-7036-4020-96C3-64CEB799B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0FA3-1B91-4C87-9022-A2BD0DE4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1F1A-63B9-4ABB-AFEF-280C6792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EF49-9170-4C76-A2BB-88F0C8C0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6606-F6B0-43AA-97AD-3AB49F1F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CD292-546D-4272-8E78-FD5DCD3D79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9BC02-81A1-4626-BF0E-52B9DB35BB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iki.tcl.tk/3099.html" TargetMode="External"/><Relationship Id="rId2" Type="http://schemas.openxmlformats.org/officeDocument/2006/relationships/hyperlink" Target="http://wiki.tcl.tk/3099.html" TargetMode="External"/><Relationship Id="rId3" Type="http://schemas.openxmlformats.org/officeDocument/2006/relationships/hyperlink" Target="http://wiki.tcl.tk/3099.html" TargetMode="External"/><Relationship Id="rId4" Type="http://schemas.openxmlformats.org/officeDocument/2006/relationships/hyperlink" Target="http://wiki.tcl.tk/3099.html" TargetMode="External"/><Relationship Id="rId5" Type="http://schemas.openxmlformats.org/officeDocument/2006/relationships/hyperlink" Target="http://wiki.tcl.tk/3099.html" TargetMode="External"/><Relationship Id="rId6" Type="http://schemas.openxmlformats.org/officeDocument/2006/relationships/hyperlink" Target="http://wiki.tcl.tk/3099.html" TargetMode="External"/><Relationship Id="rId7" Type="http://schemas.openxmlformats.org/officeDocument/2006/relationships/hyperlink" Target="http://wiki.tcl.tk/3099.html" TargetMode="External"/><Relationship Id="rId8" Type="http://schemas.openxmlformats.org/officeDocument/2006/relationships/hyperlink" Target="http://www.tcl.tk/man/tcl8.4/" TargetMode="External"/><Relationship Id="rId9" Type="http://schemas.openxmlformats.org/officeDocument/2006/relationships/hyperlink" Target="http://www.tcl.tk/man/tcl8.4/" TargetMode="External"/><Relationship Id="rId10" Type="http://schemas.openxmlformats.org/officeDocument/2006/relationships/hyperlink" Target="http://www.tcl.tk/man/tcl8.4/" TargetMode="External"/><Relationship Id="rId11" Type="http://schemas.openxmlformats.org/officeDocument/2006/relationships/hyperlink" Target="http://www.tcl.tk/man/tcl8.4/" TargetMode="External"/><Relationship Id="rId12" Type="http://schemas.openxmlformats.org/officeDocument/2006/relationships/hyperlink" Target="http://www.tcl.tk/man/tcl8.4/" TargetMode="External"/><Relationship Id="rId1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iki.tcl.tk/1611.html" TargetMode="External"/><Relationship Id="rId2" Type="http://schemas.openxmlformats.org/officeDocument/2006/relationships/hyperlink" Target="http://wiki.tcl.tk/vfs" TargetMode="External"/><Relationship Id="rId3" Type="http://schemas.openxmlformats.org/officeDocument/2006/relationships/hyperlink" Target="http://wiki.tcl.tk/vfs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izes on 32-bit operating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and rename | de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on enter | leave | enterstep | leav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 array | read | write | un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style trace command depre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labelframe" descr=""/>
          <p:cNvPicPr/>
          <p:nvPr/>
        </p:nvPicPr>
        <p:blipFill>
          <a:blip r:embed="rId1"/>
          <a:stretch/>
        </p:blipFill>
        <p:spPr>
          <a:xfrm>
            <a:off x="1143000" y="5257800"/>
            <a:ext cx="1393920" cy="1303200"/>
          </a:xfrm>
          <a:prstGeom prst="rect">
            <a:avLst/>
          </a:prstGeom>
          <a:ln w="0">
            <a:noFill/>
          </a:ln>
        </p:spPr>
      </p:pic>
      <p:pic>
        <p:nvPicPr>
          <p:cNvPr id="227" name="panedwindow" descr=""/>
          <p:cNvPicPr/>
          <p:nvPr/>
        </p:nvPicPr>
        <p:blipFill>
          <a:blip r:embed="rId2"/>
          <a:srcRect l="2608" t="37648" r="3123" b="13154"/>
          <a:stretch/>
        </p:blipFill>
        <p:spPr>
          <a:xfrm>
            <a:off x="6718320" y="3200400"/>
            <a:ext cx="2295360" cy="1709640"/>
          </a:xfrm>
          <a:prstGeom prst="rect">
            <a:avLst/>
          </a:prstGeom>
          <a:ln w="0">
            <a:noFill/>
          </a:ln>
        </p:spPr>
      </p:pic>
      <p:pic>
        <p:nvPicPr>
          <p:cNvPr id="228" name="spinbox" descr=""/>
          <p:cNvPicPr/>
          <p:nvPr/>
        </p:nvPicPr>
        <p:blipFill>
          <a:blip r:embed="rId3"/>
          <a:stretch/>
        </p:blipFill>
        <p:spPr>
          <a:xfrm>
            <a:off x="5562720" y="1905120"/>
            <a:ext cx="949320" cy="63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windowing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o distinguish between Xlib and native Aq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hange Detai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iki Changes in Tcl/Tk 8.4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wik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/3099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cal mode wiki on the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 ChangeLo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0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1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2"/>
              </a:rPr>
              <a:t>/man/tcl8.4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tails in BoF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Boo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2941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ing soon to a store near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lch 4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lynt 2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bookcover" descr=""/>
          <p:cNvPicPr/>
          <p:nvPr/>
        </p:nvPicPr>
        <p:blipFill>
          <a:blip r:embed="rId1"/>
          <a:stretch/>
        </p:blipFill>
        <p:spPr>
          <a:xfrm>
            <a:off x="3627360" y="990720"/>
            <a:ext cx="4830840" cy="520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Tcl and Tclkit bi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ver 2 years in the m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iki.tcl.tk/1611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http://wiki.tcl.tk/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v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ification of the C A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 incompatible – with a compatability #def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ind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2-09-11T16:00:26Z</dcterms:modified>
  <cp:revision>416</cp:revision>
  <dc:subject/>
  <dc:title>8.4 Tcl Overview</dc:title>
</cp:coreProperties>
</file>