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48DF-920E-47C5-9E18-E0F5D1785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88E1-5DAE-491C-8B0E-43A968C8F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B4BB-2B88-4EB3-BE36-F98501267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66D6-8B35-44C2-AEBE-A1531217D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98C47A-1FA8-4132-9A52-195C5719732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1B22A9-EF7E-4D38-8232-169BB3A1AF5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A0A66B-25F8-4B70-8796-10AD80D25BE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2C0844-FD74-4097-A358-B08F795ACC2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D98380-3A86-4AB6-8435-58755EEC893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5FC147-4D32-4ECA-9F93-9696BD7A493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DFEF9A-CB25-429A-8491-3CA977C283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D02C-A00D-464A-BE8A-06727D3C7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DEB377-7E59-429E-AB70-A4EB7630D8D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4E1451-A99A-43A7-ADE3-BD12B04DE5F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B744D2-75C8-4269-A9CC-9942867D634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231445-CC99-4E1B-B9BA-47B9AC26CB8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617E84-52B9-404D-B7A4-AF8A64F904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897F-4C1E-4009-BE1F-F492947A7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769F-C4E1-4137-887A-F7E1217CA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765C-B3A7-49A5-B822-15C22F9E4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6E6D-DE3E-4FBC-8060-E4D6FD668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00E5-1FAD-4538-88FB-EA5C9073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38EF-3C5A-4E4B-9023-9F2169AE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ED20-5A56-45E3-B763-38525CBF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0C49-E4B3-4559-8C2C-00A3CD4B52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B090A-C5DC-445F-AF55-CFE15A4BEB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 8.4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lset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dex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earch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nchronous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teps to 8.4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0:54Z</dcterms:modified>
  <cp:revision>406</cp:revision>
  <dc:subject/>
  <dc:title>8.4 Tcl Overview</dc:title>
</cp:coreProperties>
</file>