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527-C059-4FAE-9979-9D383782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01A-DF92-4198-9551-37E390E4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F4F-313E-4326-9F1E-1F696CEC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DB1-1BF6-4B09-9A14-6A9A8836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09E-062A-4775-AFFC-59B9E98F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D68-2985-4E0C-8B34-83D57B27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01D-687F-4512-8213-6B88945B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35C-B741-4975-A030-EC7D990B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206-F830-48E6-8908-BAFB9D1F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AE4-A3EE-4E8D-9BF0-97E3A3A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401-4864-47D4-B3B4-85BB4540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CF4-9468-47F3-9BCC-A976FEC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E64D-F786-4492-A684-522BD29FC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5-05-15T05:31:27Z</dcterms:modified>
  <cp:revision>5</cp:revision>
  <dc:subject/>
  <dc:title>Слайд 1</dc:title>
</cp:coreProperties>
</file>