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2038-9B1D-4077-9745-2BB8E0862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1DB6-66E3-4E6C-860C-E1CA46F7E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804E-BBD6-4A3A-8930-AE7AB84D6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9ABD-C520-4CF0-B728-D3D415F5F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27AF-0449-4837-98E2-004334DC3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970C-FE71-45EF-B5D6-8BC6133E5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5298-B65E-4BB5-AB08-4102AB1B6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EA3C-C9C8-414E-BBB2-172C9F936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5D02-1D12-4C06-9C81-83DA51A85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4C25-A5E2-4AC6-BD68-4FC66FC00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2643-1C25-4C18-99EA-B7AA7AEE8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C996-5B3D-46F9-8D11-4A76ADF66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48C72-1AAC-49BF-B5D8-15D53FD0939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2590560"/>
            <a:ext cx="7086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gle: Tcl Integration with the CL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086600" cy="11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6th Annual Tcl Con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cript Evalu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cre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; # create a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eva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This is a Tcl script.  The "eagle" comm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here is actually a Tcl command that h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been implemented in managed code (in th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case, it simply maps to the "eval" comm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in Eagle)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9900"/>
                </a:solidFill>
                <a:latin typeface="Courier New"/>
              </a:rPr>
              <a:t>eagl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debug break; # type "#go" to contin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dele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; # delete the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Tk in the Main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cre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; # create a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This will load Tk into the new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eva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 {package require Tk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Service the Tcl event loop until we are cancel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fter 10000 [list interp cancel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atch {while {1} {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upd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dele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; # delete the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reating a Tcl Worker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Initialize by-ref argument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result "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thread nu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Get the active Eagle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object invoke -alias Interpreter GetActive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Create Tcl worker threa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$interp -alias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CreateTclThrea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100 true resu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Extract the thread name from the resul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name [$result ToString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Get the object for the thread we just creat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$interp -alias -flags +NonPublic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TclThrea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name \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hread resu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a Tcl Worker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Initialize by-ref argumen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t result "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Tell the worker thread to create a Tcl interp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thread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QueueEve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Creat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Immediate null tru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Queue a script to evaluate to the worker threa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thread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QueueEve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Evaluat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Immediate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{package require Tk} tru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Delete the worker thread (this will also cause t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Tcl interp to be deleted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interp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DeleteTclThread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$name fals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oes it run on Mono?</a:t>
            </a:r>
            <a:br>
              <a:rPr sz="4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by popular deman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rt Answer: Y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ng Answer: Yes, it runs on version 2.0 or higher.  However, version 2.4 or higher is recommended due to serious bugs in earlier ver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no does not perfectly emulate the .NET Framework and still has bugs that affect Eagle (e.g. #473899, #478489, #479061, #490932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909880" y="1608120"/>
            <a:ext cx="3322800" cy="47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be highly extensible and easily embeddable into CLR-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ait a minute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integrate with Tcl if Eagle is already an implementation of the Tcl languag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integrate with Tcl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xisting Tcl integration solutions for the CLR were less than ide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ossibility of using the expressive power of a Tcl-compatible language to control the integration of the Tcl language with the CLR was very compell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s unit-testing of embedding scenarios that need to dynamically load and unload the Tcl libra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cl Integration Featu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any build of Tcl/Tk, version 8.4 or higher, including "basekits" and "stardlls"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32-bit and 64-bit operating system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worker threads with their own event loop processing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exit handler creation and dele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script cancellation via TIP 28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a unified stack trace for errors via the Eagle errorInfo varia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error line number management via TIP 336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events a deleted interpreter from being us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events an interpreter with activations from being deleted via TIP 33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ading Tcl Automatical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This command loads the "best" Tc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library available.  The exa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algorithm used is documented 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the pap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tcl 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oading Tcl with Version Requirem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This command loads the "best" Tc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library available that meets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specified version requirements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load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–minimumversion 8.4 \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-maximumversion 8.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ading a Specific Tcl Libra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This command will skip the Tcl libr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detection logic and simply load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specified Tcl library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load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{C:\full\path\to\tcl.dll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09-10-01T15:50:24Z</dcterms:modified>
  <cp:revision>369</cp:revision>
  <dc:subject>Eagle</dc:subject>
  <dc:title>Eagle: Tcl Integration with the CLR</dc:title>
</cp:coreProperties>
</file>