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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cc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957240"/>
            <a:ext cx="9137520" cy="0"/>
          </a:xfrm>
          <a:prstGeom prst="line">
            <a:avLst/>
          </a:prstGeom>
          <a:ln w="1260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165440" y="6630840"/>
            <a:ext cx="118764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E375A-7737-42F1-BC33-674D96CFB418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99600" y="6630840"/>
            <a:ext cx="64440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4ACB3CAC-FE1D-4F6E-B093-B5FE25FFDC6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27960" y="660888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315120" y="209520"/>
            <a:ext cx="2604960" cy="4478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9440" y="6620040"/>
            <a:ext cx="2158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nnual Tcl/Tk Con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26768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5240" y="2118960"/>
            <a:ext cx="7407360" cy="91908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1455840"/>
            <a:ext cx="6381720" cy="4557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21980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966160" y="1457280"/>
            <a:ext cx="177840" cy="45496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45584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00696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5451480" y="4138200"/>
            <a:ext cx="33926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J. S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ipal Software Engin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 October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5081400" y="1981080"/>
            <a:ext cx="376236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t SMITH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olution of a Tes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 in Tcl/T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4760" y="0"/>
            <a:ext cx="0" cy="68580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99920" y="6497640"/>
            <a:ext cx="4703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© 2008 Raytheon Compan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ustomer Success Is Our Missi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is a registered trademark of Raytheon Company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DE458B-86F2-41F1-82FB-91F533C48AFF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mat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“transport controls” for play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back to previous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play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e one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 executing test cases in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test cases (speed contr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 of current test case, line number, and file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button to “record” new test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st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didn’t like preparing test case files with a text ed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saw the blindingly obvious solution that I mi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ways listen to feedback from the user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75884" r="0" b="0"/>
          <a:stretch/>
        </p:blipFill>
        <p:spPr>
          <a:xfrm>
            <a:off x="5983200" y="1395360"/>
            <a:ext cx="2853000" cy="870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93CD45-4557-407C-8E78-29655BD97483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Hook Into Tell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uses a peculiar homegrown IPC scheme inter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was available, b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s are compiled into static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my op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shared library with wrappers for Teller IPC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it to register for Teller internal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socket to receive other messages intended for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93800" y="2709720"/>
          <a:ext cx="7408800" cy="1241640"/>
        </p:xfrm>
        <a:graphic>
          <a:graphicData uri="http://schemas.openxmlformats.org/drawingml/2006/table">
            <a:tbl>
              <a:tblPr/>
              <a:tblGrid>
                <a:gridCol w="4422600"/>
                <a:gridCol w="1555920"/>
                <a:gridCol w="1430280"/>
              </a:tblGrid>
              <a:tr h="3063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So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e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ar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id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 C extension in shared libr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extend Tcl with other 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F4024F-86C2-4A30-A4D0-EF3D1E5BB760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oks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 the test case D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outgoing messages we expect to be gener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incoming messages we expect to come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Log 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to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go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to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from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log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/ASCII d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866216-0EA6-41D4-AAE5-1C3C8FA19428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Parse the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 Tactical Information Message Format (GTIM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already has a C tool to dump GTIMF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ses fields and displays them numer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n’t interpret values, so not truly human-read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to correlate with Agent SMITH Event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GTIMF parser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structure from ICD encoded in simple data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er procedures parse message hierarch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easily be extended to other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than a week to design, code, test, and documen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ce again, Tcl excels at network 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2268C0-F156-4BC7-8430-25F4033132EF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de-By-Side Compari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378400" y="1206360"/>
            <a:ext cx="2870280" cy="4832640"/>
            <a:chOff x="5378400" y="1206360"/>
            <a:chExt cx="2870280" cy="483264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5378400" y="5006880"/>
              <a:ext cx="2870280" cy="103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5395680" y="1206360"/>
              <a:ext cx="2853000" cy="3606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65200" y="1089000"/>
            <a:ext cx="3867120" cy="5168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600920" y="6178680"/>
            <a:ext cx="2028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 Ske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11280" y="6175440"/>
            <a:ext cx="166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l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CF70A4-906B-4EB8-AA57-ADFFB535AAAB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 helped ensure success of initi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enough for rapid prototy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enough for changing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ful enough for delivere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 SMITH has been well received by multiple user communities and used in some unexpected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use it to explore “What if?”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use it to debug other Teller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use it to provide repeatable stimu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l/Tk is ideal for developing tools and test har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28790C-8008-433E-89ED-64E2BD2F1399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062000"/>
            <a:ext cx="441936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has an existing system called Story Te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teracts with othe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sked us to add a new system called Story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s data from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s data to Story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-defined interface (IC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66000" y="129528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Te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66000" y="528624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Cloud"/>
          <p:cNvSpPr/>
          <p:nvPr/>
        </p:nvSpPr>
        <p:spPr>
          <a:xfrm>
            <a:off x="5807160" y="2809800"/>
            <a:ext cx="2743200" cy="1838520"/>
          </a:xfrm>
          <a:prstGeom prst="pie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4" idx="1"/>
            <a:endCxn id="93" idx="1"/>
          </p:cNvCxnSpPr>
          <p:nvPr/>
        </p:nvCxnSpPr>
        <p:spPr>
          <a:xfrm flipH="1" rot="10800000">
            <a:off x="6051240" y="1732680"/>
            <a:ext cx="2160" cy="3991680"/>
          </a:xfrm>
          <a:prstGeom prst="bentConnector3">
            <a:avLst>
              <a:gd name="adj1" fmla="val -41500000"/>
            </a:avLst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7" name=""/>
          <p:cNvCxnSpPr>
            <a:stCxn id="95" idx="4"/>
            <a:endCxn id="94" idx="0"/>
          </p:cNvCxnSpPr>
          <p:nvPr/>
        </p:nvCxnSpPr>
        <p:spPr>
          <a:xfrm>
            <a:off x="7178400" y="4660920"/>
            <a:ext cx="1080" cy="612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8" name=""/>
          <p:cNvCxnSpPr>
            <a:stCxn id="93" idx="2"/>
            <a:endCxn id="95" idx="5"/>
          </p:cNvCxnSpPr>
          <p:nvPr/>
        </p:nvCxnSpPr>
        <p:spPr>
          <a:xfrm>
            <a:off x="7178400" y="2185560"/>
            <a:ext cx="1080" cy="715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C8D0B0-D9DD-4818-A639-C956993A0E2E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Maker not available during developm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complicated accept/reject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s contain many interrelated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ler performs validity and consistency che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ally hundreds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ion required to play with those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communities with different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need to perform Unit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need to perform Integr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need to perform Functional Qualific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ky effort – How can we ensure succes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633564-666D-45B7-BC96-82E2F52884D3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232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Teller project engineer sketched out an idea for a tool that would let y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 test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required initial conditions and expected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it to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the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any error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cate test PASS/F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hard would it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45080" y="1089000"/>
            <a:ext cx="4076640" cy="544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9CFAE5-F0F4-4D8C-818C-7181791C0669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/Tk to the Rescue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llent prototyping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makes networking ea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k excels at building GU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used in Story series and relat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proceeded in four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Prototype proposed solution for proof-of-concept de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Automate the tool with playback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Hook into Teller to monitor internal and externa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Parse the data into human-readabl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use Tcl/Tk for prototyp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elivered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3DE88C-5912-4762-95DC-588E2686356F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“Agent” SMITH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evious project of mine was nicknamed “matri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as developed when the first Matrix movie was rele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features a prominent matrix of data in the form of a Tk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project was a code count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SLO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a trend of including “titles” when naming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ronym SMITH was a natural for this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one called it “Agent SMITH”, with a Hugo Weaving draw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ame st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241DBF-88F1-40F0-B46D-021BD1AE8F00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Prototype 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tailed Expected Response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 confusing Expected Outputs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really two kinds of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ctual response message back 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s taken by Teller and the Other System as a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automatically check expected vs. actua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need a way to describe external reactions, but h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generic Event Log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olling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TEST Case, Initial Conditions, Result, and Erro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stination host:port fields for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38880" y="1089000"/>
            <a:ext cx="1764000" cy="2359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499600" y="1812960"/>
            <a:ext cx="0" cy="5475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56320" y="1200240"/>
            <a:ext cx="1446480" cy="271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58120" y="3006720"/>
            <a:ext cx="1446120" cy="244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8167680" y="1457280"/>
            <a:ext cx="1440" cy="1533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54880" y="1506600"/>
            <a:ext cx="1446120" cy="296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AE9CF0-F341-4104-9F70-293A76C0B3F7}" type="datetime1">
              <a:rPr lang="en-US"/>
              <a:t>07/31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27088E-006 L -0.37465 0.17649 E">
                                      <p:cBhvr>
                                        <p:cTn id="6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3000" y="33000"/>
                                    </p:animScale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465 0.17649 L 0.00017 -0.00116 E">
                                      <p:cBhvr>
                                        <p:cTn id="14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otyp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proof-of-concept to Teller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menus to aid in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try used tk_optionMenu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good for labels - they show their curren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e the window big and clut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to menubuttons with down-arrow character in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we have used combo boxes?  (Maybe still cluttere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size of main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the Event Log a separate resizable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Exit button into a File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destination specification into a Server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750000" y="4324320"/>
            <a:ext cx="2057400" cy="739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rcRect l="0" t="47648" r="60009" b="27354"/>
          <a:stretch/>
        </p:blipFill>
        <p:spPr>
          <a:xfrm>
            <a:off x="6961320" y="1693800"/>
            <a:ext cx="1646280" cy="129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D1405A-07CA-4DBF-AC7D-02632B210E2E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Automate the To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entry to File menu to Open a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d by 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a simple Domain-Specific Language (DS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Case  Msg Msg     Track  TELL ID                          Sp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 Num  Typ ID      ID     Stat Threat      Cat     Plat    Type    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1  11  123     JJS     0   ASMDFRND    AIR     FTR     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et msg "Enter the desired Message ID:" ;# get value of msg from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2  11  $msg    JJS     0   FRIEND      AIR     FTR    *F-18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llegal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ote "Special setup required for next test case!" ;# stops automatica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3  11  123     JJS     0   FRIEND      AIR    *BMR    *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consistent platform &amp;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create Domain Specific Languages with 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9520" y="389412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280" y="4157640"/>
            <a:ext cx="87948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3040" y="491976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2480" y="4405320"/>
            <a:ext cx="54000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97080" y="4327560"/>
            <a:ext cx="461880" cy="1569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DF0522-A30C-4D62-AB4B-AEDC40CCC042}" type="datetime1">
              <a:rPr lang="en-US"/>
              <a:t>07/31/26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5T17:46:14Z</dcterms:created>
  <dc:creator/>
  <dc:description/>
  <cp:keywords/>
  <dc:language>en-US</dc:language>
  <cp:lastModifiedBy>RTSC</cp:lastModifiedBy>
  <cp:lastPrinted>2009-04-22T19:24:48Z</cp:lastPrinted>
  <dcterms:modified xsi:type="dcterms:W3CDTF">2008-10-14T18:38:11Z</dcterms:modified>
  <cp:revision>109</cp:revision>
  <dc:subject/>
  <dc:title>Presentation  Title to allow  for 3 lines</dc:title>
</cp:coreProperties>
</file>