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ECFF-451A-449A-AD7F-656205A19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7F3D-E6B3-4E3F-A72F-190D5E28D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9100-9500-4A45-806D-DA645295C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CE38-1B10-4D77-AE3F-98067ECA1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B1AB48-546D-4F45-95C2-292CC69E34D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DC62D2-2A19-472E-9C01-8B7D2C37006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3B6D48-B924-46DD-B2DD-A596813D291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45294F-B574-44CB-B603-0F5DD20D3B9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77D6F4-EA1B-45CF-AEC0-6C12471F7F3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7088E9-FC7B-4025-A5E9-33B13ADF126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CB977E-454D-4893-B121-0359D339FF6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B446-1A55-4946-A362-CEB298107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7623D8-3536-4243-8E5B-13B637FBC37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D585CF-AF6B-495C-A8E3-EBDA9C78D28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143F9F-35E2-4B20-B542-04B518CC45E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BEE0AE-483D-4DBB-8799-BC33ABBAC68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8C35CF-E1C5-48DE-8BCC-DA823B0F869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5B8E-B316-4DAE-AD53-CE45B11FB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FF05-D8B0-4521-878E-52C454FD2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CFFC-9C37-47AD-A87A-F410E53F3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A1BC-D027-42EE-A7BA-6D22BD061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2833-7091-4F32-BB06-FCFE252F3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6C56-08BB-4F38-AEAF-BD68338FA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166C-9922-4120-8CAE-25A92BCBB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79E8E-375E-42D8-8B9E-10EA2A93AA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059680" y="76320"/>
            <a:ext cx="998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F655D-717E-4C20-9478-C034446C8E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145360" y="2209680"/>
            <a:ext cx="998640" cy="129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tcl.sf.net/" TargetMode="External"/><Relationship Id="rId2" Type="http://schemas.openxmlformats.org/officeDocument/2006/relationships/hyperlink" Target="http://tcl.sf.net/" TargetMode="External"/><Relationship Id="rId3" Type="http://schemas.openxmlformats.org/officeDocument/2006/relationships/hyperlink" Target="http://tcl.sf.net/" TargetMode="External"/><Relationship Id="rId4" Type="http://schemas.openxmlformats.org/officeDocument/2006/relationships/hyperlink" Target="http://tcl.sf.net/" TargetMode="External"/><Relationship Id="rId5" Type="http://schemas.openxmlformats.org/officeDocument/2006/relationships/hyperlink" Target="http://tcl.sf.net/" TargetMode="External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 Black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Annual Tcl Con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eff Hob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T: TIP Initiativ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 page for Tc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http://www.tcl.tk/cgi-bin/tct/tip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focus i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urrently over 100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Divided into process, informational &amp; project T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T discussion is open on the public mailing list: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CA" sz="2000" spc="-1" strike="noStrike">
                <a:solidFill>
                  <a:srgbClr val="000000"/>
                </a:solidFill>
                <a:latin typeface="Lucida Console"/>
              </a:rPr>
              <a:t>tcl-core@lists.sourceforge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Maintain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/Tk maintainers are separate from the T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intainers oversee a specific area of the core, as defined in TIP #16 for Tcl and TIP #23 for T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y assist, but are not solely responsible for, fixing  bugs and adding documentation in their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y are responsible for reviewing code and approving code changes to their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pen to anyone willing to lear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New volunteers always welc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he Maintainers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cl (TIP #24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(TIP #30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ther contributors as w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371600" y="3814920"/>
          <a:ext cx="7315200" cy="161604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len Fli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ter Spju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dd Helf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Smi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édéric Bonn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Griff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ngye Ma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e Engli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7" name=""/>
          <p:cNvGraphicFramePr/>
          <p:nvPr/>
        </p:nvGraphicFramePr>
        <p:xfrm>
          <a:off x="1371600" y="2057400"/>
          <a:ext cx="7315200" cy="121932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niel Steff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guel Sof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lf Schroed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Scriptics/Ajuba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criptics became Ajuba Solutions in May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terwoven: content management company in need of B2B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sf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.net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6705720" y="439560"/>
            <a:ext cx="433440" cy="417600"/>
            <a:chOff x="6705720" y="439560"/>
            <a:chExt cx="433440" cy="417600"/>
          </a:xfrm>
        </p:grpSpPr>
        <p:sp>
          <p:nvSpPr>
            <p:cNvPr id="221" name=""/>
            <p:cNvSpPr/>
            <p:nvPr/>
          </p:nvSpPr>
          <p:spPr>
            <a:xfrm>
              <a:off x="693108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81012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680976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75828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67575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75756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70572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at SourceFor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urceForge provides a wealth of services for open source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ug and patch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VS reposito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ile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b p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naged by TCT and Tcl/Tk maintain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ot the Tcl Developer X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@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eState established 199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ing for the Peopl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eff Hobbs hired in Feb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reas Kupries follows soon af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alth of scripting knowledge at Active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State and Tcl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provides the Tcl community with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Enterprise/TclDirect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essional services for Tcl (TclDire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eT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aspn.ActiveState.com/ASPN/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PN Tcl (Tcl Dev Kit + Komodo ID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ASPN_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Tcl 8.4.0.1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ed on the 8.4.0 Tcl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hanced with several popular exten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incr Tcl], TclX, expect, tcllib, Bwidgets, iwidgets, tktable, tkc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tandard batteries-included distribution for Tcl us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vailable for Windows, Linux, Solaris and HP-U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may come in the fu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Tcl (cont.)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de repository (still) in the 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tiveTcl 8.3.4.3 based on the 8.3.4 Tcl co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vides a basis for the Tcl Dev K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sidering threaded buil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Developer Xchan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devxchange" descr=""/>
          <p:cNvPicPr/>
          <p:nvPr/>
        </p:nvPicPr>
        <p:blipFill>
          <a:blip r:embed="rId1"/>
          <a:stretch/>
        </p:blipFill>
        <p:spPr>
          <a:xfrm>
            <a:off x="1077840" y="1104840"/>
            <a:ext cx="6953400" cy="5572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has happened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s in the Tcl commun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s of the Tcl/Tk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dir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Cookbook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tclcookbook" descr=""/>
          <p:cNvPicPr/>
          <p:nvPr/>
        </p:nvPicPr>
        <p:blipFill>
          <a:blip r:embed="rId1"/>
          <a:stretch/>
        </p:blipFill>
        <p:spPr>
          <a:xfrm>
            <a:off x="1014480" y="1143000"/>
            <a:ext cx="711504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TclPro + Mo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roduced December 200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cl Dev Kit: based on TclPro, a commercial quality development environ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bugger: source-level debugger with nice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er: find errors without running 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apper: create self-contained applications for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: protect your source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5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6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47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Komodo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 IDE for scripting languag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zilla framework b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oss-platform (Windows &amp; Linu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rn IDE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ral unique Tcl editing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ght integration of TDK tools with Komo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odo 2.0 in beta (demo la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1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2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53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ActiveState Komodo 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komodo" descr=""/>
          <p:cNvPicPr/>
          <p:nvPr/>
        </p:nvPicPr>
        <p:blipFill>
          <a:blip r:embed="rId1"/>
          <a:stretch/>
        </p:blipFill>
        <p:spPr>
          <a:xfrm>
            <a:off x="638280" y="1030320"/>
            <a:ext cx="7819920" cy="572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Futu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inuing development of Tc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 Dev Kit 2.0 released in Augu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hanced debugger with integrated che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coverage and hot-spot analysis 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user-friendly GUIs to Wrapper and 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er updated for 8.4 (and corrected for 8.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UI Builder part of Komodo 2.0 P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-platform, x-language Tk UI buil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d loosely on SpecT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 be integrated with other to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6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6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guibuilder" descr=""/>
          <p:cNvPicPr/>
          <p:nvPr/>
        </p:nvPicPr>
        <p:blipFill>
          <a:blip r:embed="rId1"/>
          <a:stretch/>
        </p:blipFill>
        <p:spPr>
          <a:xfrm>
            <a:off x="419040" y="1104840"/>
            <a:ext cx="8229600" cy="564048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ctiveState GUI Builde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In the Community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Tcl’ers Wiki has increased in activ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iki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Tcl Developer Xchange official UR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www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tcl.ActiveState.com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-URL! continues to provide weekly new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www.ddj.com/topics/tclur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r subscribe to </a:t>
            </a: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tcl-announce@listserv.activestate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ots of extension upd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698080" y="2022480"/>
            <a:ext cx="259632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out the wik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/Tk Toda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7239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wnload rate stead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: 5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: 4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le release now at 8.4.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 than 2 years in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nning 4 compan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release to be governed by the TIP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ntless features and enhanc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ious stable release 8.3 set a new stand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E 8.1 will include 8.4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49120" y="1641600"/>
            <a:ext cx="279900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eTcl downl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649120" y="2403360"/>
            <a:ext cx="3024360" cy="119124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poi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2x ActivePython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1/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ctivePerl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8.4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8.4.0 released September 10</a:t>
            </a:r>
            <a:r>
              <a:rPr b="0" lang="en-CA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, 200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ny core feature enhanc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virtual fil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mproved 64-bit support on 32-bit O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Extended serial port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lset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lsearch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regsub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, command tra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ignificant work on 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ar or better than 8.0, with unicode and thread safe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clusion of numerous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8.4 (cont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ew </a:t>
            </a:r>
            <a:r>
              <a:rPr b="0" lang="en-CA" sz="2800" spc="-1" strike="noStrike">
                <a:solidFill>
                  <a:srgbClr val="000000"/>
                </a:solidFill>
                <a:latin typeface="Lucida Console"/>
              </a:rPr>
              <a:t>spinbox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CA" sz="2800" spc="-1" strike="noStrike">
                <a:solidFill>
                  <a:srgbClr val="000000"/>
                </a:solidFill>
                <a:latin typeface="Lucida Console"/>
              </a:rPr>
              <a:t>labelframe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CA" sz="2800" spc="-1" strike="noStrike">
                <a:solidFill>
                  <a:srgbClr val="000000"/>
                </a:solidFill>
                <a:latin typeface="Lucida Console"/>
              </a:rPr>
              <a:t>panedwindow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core Tk widg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Unlimited undo/redo in </a:t>
            </a:r>
            <a:r>
              <a:rPr b="0" lang="en-CA" sz="2800" spc="-1" strike="noStrike">
                <a:solidFill>
                  <a:srgbClr val="000000"/>
                </a:solidFill>
                <a:latin typeface="Lucida Console"/>
              </a:rPr>
              <a:t>text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wid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mpound buttons and lab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mproved window manager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orts now exist for native OS X/Aqua, Windows CE and Palm 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ore later in 8.4 ov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&amp;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ur 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8.4 Contributo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1523880" y="1231920"/>
          <a:ext cx="6096240" cy="4987800"/>
        </p:xfrm>
        <a:graphic>
          <a:graphicData uri="http://schemas.openxmlformats.org/drawingml/2006/table">
            <a:tbl>
              <a:tblPr/>
              <a:tblGrid>
                <a:gridCol w="1219320"/>
                <a:gridCol w="1219320"/>
                <a:gridCol w="1218960"/>
                <a:gridCol w="1219320"/>
                <a:gridCol w="1219320"/>
              </a:tblGrid>
              <a:tr h="50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nd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k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nfie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udaill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ink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unn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llewa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vid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uff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l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gl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y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e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avereau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llid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rr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lf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p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gh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n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valenk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rehbi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up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uzm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v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ver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t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lsk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ll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l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erhum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erme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leini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tas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o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on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tclif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uppe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hroed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f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ju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nt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guch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kahash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kesh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chent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r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oy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siljev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rd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sku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gn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t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lt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amamo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User Poll: Vers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sions in 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-8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esponse (out of x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ser Poll: Platform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/Deplo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intosh OS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intosh OS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a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P-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unix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ponse (out of x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’Europe 2002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unich, June 27-28, 20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15 original tal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alks included on the Tcl’2002 conference C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hanks to Michael Hasch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alks and pictures on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CA" sz="2400" spc="-1" strike="noStrike">
                <a:solidFill>
                  <a:srgbClr val="000000"/>
                </a:solidFill>
                <a:latin typeface="Lucida Console"/>
              </a:rPr>
              <a:t>http://www.t-ide.com/tcl2002e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re is guided by community in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one can write a T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one can be a core maintai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sues are most press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will continue to work with the Tcl community and build more Tcl related produ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mos l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deas in the Pipelin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803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More) improved Tcl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chive file support via VFS (.jar/.zi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rger source / binar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l Insta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-alone executable support in core (*wra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54440" y="1447560"/>
            <a:ext cx="3803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maller, modular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 &amp; Dr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ndows Tk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ting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k abstraction layer (TkG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gawidgets (roll your ow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 core is robust, feature-ri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still pushing the bound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emphasis on packages and modula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is the key to an even more successful fu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839080" y="257184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8656560" y="257184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 flipV="1">
            <a:off x="6883560" y="328284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3193920" y="3276360"/>
            <a:ext cx="0" cy="191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1828800" y="3276360"/>
            <a:ext cx="0" cy="86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6386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0020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000240" y="5189400"/>
            <a:ext cx="299088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6396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648240" y="105732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2443320" y="3265200"/>
            <a:ext cx="0" cy="193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5392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0036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16232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9680" y="3524400"/>
            <a:ext cx="9288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9068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95264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308240" y="3648240"/>
            <a:ext cx="98568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949480" y="3648240"/>
            <a:ext cx="100980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0328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714840" y="4019400"/>
            <a:ext cx="192384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514836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57880" y="18194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19880" y="480060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. ActiveTcl 8.3.4.3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77724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7848720" y="3276720"/>
            <a:ext cx="0" cy="704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899480" y="2052720"/>
            <a:ext cx="108252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.0 Se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452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3454560" y="4782960"/>
            <a:ext cx="433080" cy="417600"/>
            <a:chOff x="3454560" y="4782960"/>
            <a:chExt cx="433080" cy="417600"/>
          </a:xfrm>
        </p:grpSpPr>
        <p:sp>
          <p:nvSpPr>
            <p:cNvPr id="179" name=""/>
            <p:cNvSpPr/>
            <p:nvPr/>
          </p:nvSpPr>
          <p:spPr>
            <a:xfrm>
              <a:off x="3679560" y="49046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5896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355824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50676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50640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06400" y="4974480"/>
              <a:ext cx="31176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454560" y="4902840"/>
              <a:ext cx="433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8305920" y="283860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88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5357880" y="340056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962760" y="2971800"/>
            <a:ext cx="1886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96080" y="3981600"/>
            <a:ext cx="762120" cy="320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691320" y="259092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305920" y="24861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143760" y="3733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824440" y="414324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. ActiveState TclPro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1320" y="5505480"/>
            <a:ext cx="221148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. ActiveState Tcl Dev Kit 2.0 (Au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8153280" y="3276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977240" y="3505320"/>
            <a:ext cx="815760" cy="3492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Usa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cl usage is still grow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extensively for mission-critical 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sco, Motorola, Lucent, Nortel, etc.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omated hardware te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different pieces of test equi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cl omnipresent in EDA indus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OL Digital City, Travelocity, MapQue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ynamic Web cont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e information from different 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ent developers are not programm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Usage, Cont’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mission-critical 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B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gital broadcast control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x programming content, control transmission through satellites to local s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x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in animation tools (RenderMan softwar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ical directors write Tcl scripts to animate charac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ell O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l-time control for offshore oil platfo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, manage various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atus As of 8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Tcl Conferen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O’Reilly Open Source Convention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n Diego, July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/Tk 8.3.3 was the stable version (8.3.x now standard in Linux distributio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.4a3 was just rele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was just establishing with Tcl expert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ed in August 2000 with 14 charter members based on community voting to collectively manage development of the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Core Tea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2133720" y="3032280"/>
          <a:ext cx="5105160" cy="2766960"/>
        </p:xfrm>
        <a:graphic>
          <a:graphicData uri="http://schemas.openxmlformats.org/drawingml/2006/table">
            <a:tbl>
              <a:tblPr/>
              <a:tblGrid>
                <a:gridCol w="2552760"/>
                <a:gridCol w="2552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>
                        <a:alpha val="50000"/>
                      </a:srgbClr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arl Lehenbau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k Harri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chael McLenn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. Richard Hip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rey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Ousterh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Howlet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ent Wel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9" name=""/>
          <p:cNvGraphicFramePr/>
          <p:nvPr/>
        </p:nvGraphicFramePr>
        <p:xfrm>
          <a:off x="3753000" y="5799240"/>
          <a:ext cx="1866600" cy="431640"/>
        </p:xfrm>
        <a:graphic>
          <a:graphicData uri="http://schemas.openxmlformats.org/drawingml/2006/table">
            <a:tbl>
              <a:tblPr/>
              <a:tblGrid>
                <a:gridCol w="18666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ll User</cp:lastModifiedBy>
  <cp:lastPrinted>1999-01-02T23:07:33Z</cp:lastPrinted>
  <dcterms:modified xsi:type="dcterms:W3CDTF">2002-09-11T05:41:08Z</dcterms:modified>
  <cp:revision>416</cp:revision>
  <dc:subject/>
  <dc:title>Tcl'Europe 2002 State of Tcl</dc:title>
</cp:coreProperties>
</file>