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17ED0C-8F56-4287-9433-3CCFEFC095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590617-FBCA-4F75-A8A4-1F68180FE7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EFEAA9-5826-4824-A452-8D0D363DE1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3F23E3-D381-480B-87E6-C74516C524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038528-8BDC-405B-A430-44D5D7D451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EAE1C0-3AEC-4AF8-B817-7D29C7A975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2A13D3-ADC9-4A7B-B6B1-C46200134F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BDBB13-C1D0-445F-AC61-1AA8D1CD0A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90605B-26FB-4A6E-A0B9-85E330E754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7BCAEE-FE12-4406-92DA-5B190E944F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101E51-03D4-4A8B-8855-850A02C4D9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C81D02-8E0D-44BA-9C51-53894896EF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58FF9E-D43B-4444-AACB-287FE47F25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9410F6-B5D9-496D-855F-6036589D9A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E708F5-16A8-4A4C-BD01-D317C411CD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3F2CA8-1A7A-4C44-87C9-B0D63D10D2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95C585E-B1A7-4354-AA77-C9F31C6AB2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46B2DF-8EB8-4687-9FD9-39506154F2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D6DFF3-42C4-4EAA-8982-EBDEFACEF8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62C828-5317-4B5A-9E5B-EB32686B89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4BB37C-C749-4BC4-8415-9CDDC14D99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73B518-55AA-4FBB-936E-63E7F3F665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4BD176-F5CF-49E3-81F2-0B82B7FC75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21B549-F5D2-43AD-86AC-A18586F7C5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96693-D487-4B79-9DEF-FDD8B2D4009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B97BC-9FC9-4A36-BA33-F48D9A39ECF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A7B290D-9E4B-49B9-B056-92F51631588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77A028D-1A46-4F28-B629-1AEFDB2F9AB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57DC65-59A6-4603-BD3F-C9AF1714BC8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9EFDB5-BE8A-4AA1-9F04-AAE3363A95B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79CB2C-CDB8-4687-9C13-65F39195667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93285A-95FC-408C-81B5-F094E8AA4E0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B72878-7A07-4B8D-BE3A-1DA39978EB0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66C277-B65C-410C-AF02-070E39BC4431}"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CA2774-38AA-47C2-9FAA-2164010B9231}"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0F6205-B65D-4B25-AAB3-6D367ECE90D5}"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30F4DE-AF1B-498B-8165-07E415B6A621}"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D07294-EF28-4D33-9446-31EC7C336B39}"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7EC757-5244-4661-8593-90F8053186B9}"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88944A-2D90-4B14-819A-A5062F86D008}"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FA5A37-90C7-413B-BF22-E8C5BF8D6AAD}"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589D5E-F529-4F26-B1A1-8CB195F08709}"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DEA12D-8F63-446E-9A09-3B14F79C2BF5}"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00337D-26D4-4049-B595-7376043F8362}"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A7547A-420A-4130-BB95-ED7125A990EF}"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F76946-3466-4ECE-89D0-9A02DADF009E}"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BF0525-6B92-4796-A86F-D4B3A999A6D0}"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4D3188-A2BE-4D6A-8B32-2ED4443ADBF5}"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B8067B-C834-4DD1-9F56-F82C519D1314}"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C76EBA-B058-4ACD-94EA-6A8FA2A0E5B1}"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DC5935-3C94-4DC5-B169-AA752456D9F4}"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B2E461-52B4-430A-967A-F2D81F475DBD}"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35A7DB-24F6-43FA-9EF6-5F1FF90D3216}"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F3719FE-2E7F-4BC6-BD09-2386EA147F78}"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432B34-5D52-4CF0-BB97-45B33FEE9867}"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5F5152-B840-47D5-BD03-6322ACD3F7DC}"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F7B43B-5853-41C3-8399-CCD522B4FBCC}"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24471B-CCF3-4E42-A237-DA7F08C373A0}"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C5C997-02E3-4CC7-918F-AD6E1F7E4566}"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E2B6C9-3392-4F61-A1A0-F11BC9C33742}"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412819-E260-4B24-BA47-FCF4DF478383}"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6631E2-328F-4139-B701-58637E66D68F}"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1D116F-A2CE-4337-A37A-E84233348D99}"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B843FF-C561-42A6-B14D-BD6B71E58D7D}"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0A4C26-942A-4094-BC8F-F409BF2F7553}"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B6D3CF-4B96-434E-8C3E-0AD0933CEE77}"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6FFD0B-F9CF-4CD6-BAD2-9842FB885796}"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6E09FD-0648-456E-A10F-A69363130A07}"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CECEBE-3BEF-49FB-93E6-2384322F61F1}"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EA0238-EF87-49C0-93C4-2BB65FBFDECB}"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B4CA3A-2FF9-4BD6-A69F-C39C01CC568E}"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28629E-7B07-47DD-8059-0B93BFABCEE2}"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12A7C5-8481-4753-93D3-86F4E03D383F}"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91307D-4745-44C9-9629-E46A87FB9C66}"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4FE72C2-2999-456C-8975-F21A068607D7}"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53A521-E452-46DF-B510-28F6C05F1B87}"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1F1197-147B-414E-AF2A-7A88EDE88D39}"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6929303-211E-4233-AFD3-EC6A863D0E09}"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411C0F-508C-485A-B12F-A9D53A8F4495}"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4937E5-CC51-4ECB-A6BA-F68952771C6D}"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DC5270-DA68-47E5-B271-4ECD75EDAA8F}"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C65274-2B88-4961-8F73-E4F33699F2AD}"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BFF989-D00A-4C2F-87C6-8127B9D041DA}"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E8745E-BC33-4757-A0BF-2F20D2A515A7}"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C86E70-0807-423A-BC1A-480B75350B5F}"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1F9C9D9-2C6E-4E4F-A769-777D91D4FDDC}"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318FEE-A84D-4ECB-A8ED-4814F83FF95D}"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4BD05F-4F62-4CEC-9D0F-05EBFFAFA016}"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7F068B-1590-4152-AB96-CAB67D3C8117}"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1C6F64-A1FA-4203-8C6F-D17DA15DF52B}"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FB2502-8D29-482F-B43B-C3798BD6B180}"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7C0F8EC-A197-4CE2-8B65-5FBFEA9234FF}"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3DBFEF-2B57-43F3-B0D8-2A56BB1CD073}"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ED3A6A-08AE-4334-8D9D-A1EDB2E610C9}"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86F7D2-7C3D-409C-B2E7-51D2DCAFC5D9}"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3328B3-C761-4229-8543-7F8D07B28083}"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79E0293-4D63-4D07-B97A-B62CE4F3BAF2}"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BBC509-4577-40BB-912B-B8E9BD5240F4}"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9BB582-90F3-4234-9F30-4875EFDA5315}"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7922FE-F89D-4FE0-881D-268516DD21B7}"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89A54E-9D7F-4FE9-BAF9-679C72AD2963}"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E58C8B-B78E-4DA4-9B0D-1301F65DC843}"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F8BCD7-A88D-4D46-B179-1CE3AA7D7C97}"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D07FAF0-8BE5-465B-BED8-2867AB2E3F73}"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DAA9CB-7DC0-4A5D-B004-6A33C434A4C4}"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3D79B1-C7F4-4E2F-A8FA-1110ADD92A98}"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9997C8-4776-49AF-9737-B3936D26EDC1}"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4FCB0FC-BD9F-444C-A100-6407069BC821}"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C0C0CA-A91B-4985-BC90-F97A2FA067F9}"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E4D09DC-40E6-4B8F-917F-567B9831559B}"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318891-6022-42DC-B9C1-D29D20CC4577}"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ACC89A-156E-4B88-9E96-F11A5827B799}"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4B3C86-F497-4123-9019-99CE6C7E42E8}"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B31273-3A94-4C06-9363-8838C98C77AC}"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9E1A2D-3CFA-45B3-A938-1123723498FC}"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8B1BAF-7D00-4CD4-BCB1-3DA2F369F838}"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9F41FB-75AB-4D2D-9D70-23E6B1D81FCA}"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10DCA6-DC4B-4F8B-A3ED-2E76AD0C64B4}"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B8E243-4F9E-47D9-AAF8-0999CB224A5F}"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7A30B1-2A29-4355-8F3F-491B31DFA2C7}"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A0F0B2-961A-4FFE-8A38-32E9D5301DE8}"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BCFA1D-D9EE-45C3-A0FF-14C37F2348D5}"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3EC837-5976-41B4-9102-A18FAAD91206}"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5A791E-9B41-4DBE-8A97-300F1A259756}"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33A57C-AFB6-4E11-BA3B-BC8B22339575}"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6F90A8E-D022-40DA-A68E-553609FA3E63}"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CCCC53-E833-405F-8AE3-BFB864550389}"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7EA094-5ECB-4A58-AAB1-7748697A4333}"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BADEFA-60AF-48CA-9869-3489820F1FB8}"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87F100-E041-45DB-B52A-218FE216CB68}"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8AEAD0-766A-4457-9D49-239CA82CD8D9}"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4A027D-DE01-46DF-A2F9-6D459584F92E}"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574ADF-4BE7-4554-A7D2-C0BB56DF6737}"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DD062B-3D94-4D36-AC63-8233CB122D11}"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C8C105-1D83-4338-AF50-583A237C996F}"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36D6DC-6C4D-470A-B407-B81A151CB32C}"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AA2594-E54D-412A-A13A-D46C4E74101F}"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87B347-F73F-4FB3-A8F4-56AB887D1BA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5A454D-C8B2-4E6C-8E66-DA84EEBF70EC}"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C3F3E5-3C89-4368-B4A3-B8FCA5FDB2C2}"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8D811D-6DF0-4114-BE2F-14770894DDD5}"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CECAF1-0103-4A2E-9030-F10DDA5B5211}"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958DF4-41D7-4635-ADD0-05BFA70351FE}"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B8CB57-C103-4474-A736-57A630F8D0B7}"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2F1EC5-8748-42A0-9527-1C562FECD31E}"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E600EB-3A1C-4E87-9C7E-2AE12B50D4CE}"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C2B41B-11E6-48F4-A635-9E7FFF49F1FF}"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962B36-6134-4208-A3FE-BC90BDAF2B50}"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CF59A9-EFD4-4AEB-96E6-40B0650C1E14}"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E63685-010B-4FAF-BF0D-5F8B50392595}"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F732E7-BED5-40F7-AF25-0FF91CCE1F56}"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7DCFC4-95BE-49B8-8895-D555D9EB1B45}"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24CC76-E4D7-4B91-AC08-4378797A7857}"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ED586E2-BC5E-40C8-85E5-4B76CFD5CB99}"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308DB4-4148-4066-BB3C-FB2C653A988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45DC35-9C9D-47C1-BE56-228F829C1C4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D9F000-A2C4-4C99-AF86-DAB8C994462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14E4C1-42AB-407A-A237-BEA626DDBC5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D6F6A2-3BA2-4994-BDEF-1FE365567B1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F7F128-7853-4469-8183-C8C2A0AD95B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8E4071A-B556-4EDD-94FB-2723E58A548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920A39-CC45-44FC-9A28-0C5756C3F86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910807-344F-44DB-ACCE-EA5184B8A5F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32C823-EEDA-4E65-93DB-D627ECE897B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2865D2-BAEE-42D6-8067-690FD7FBB65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1C7BC2-FC6B-47F1-AA3C-1DAD55C80EC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FF075E-5C09-474C-8A0D-84BE34B0FD6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97C872-DEED-4647-821C-D0510E26E71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AE3956-9E7E-448B-A654-7878F9D9112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0B3585-CE49-408A-85F5-021C63D4CD9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B9400A-ED32-4A0D-B5FC-19527ACA118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A2DD15-E2F2-4DC1-9087-BE480CF44F5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0E505A-F78E-4C0D-9D71-62FD9F471A6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51C4C0-96F7-44ED-BD23-AFBD57B5978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5A5E56-E5CF-4267-9E15-B3874B0AB10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A5D8CD-4F17-4F06-91C4-70345C9E452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6BB3AD-E990-4FE9-B694-6D97A9A5E15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6B1E49-1A63-4FAF-B458-AB21CA25D76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D18B6D-5037-4318-A273-1A074FF36E1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DE765C-1C08-414B-934D-876E1B486D0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2FC7FD-F2C7-4AF3-ACAC-F19725617E8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299EED-4C53-48AD-A267-016C2C0AC64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870C46-80AF-481C-8B80-2FCC16ABA11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E74BE0-B8D5-45B5-897F-19333B94AFF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52631A-BA7E-407C-9C6C-676EC18C74A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480400-A01A-4ABB-92FD-41D4576120B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84D69D-A3E5-476A-B5CB-CF95C9DF4FA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BA84CA-3354-4856-91C2-0C46E42C45B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471488-5F63-4F7F-99CF-0F651FDC0E8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FA283C-AC5A-4585-90FA-A226195374D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76EEA5-F6BC-40DD-8635-7F5D87FEFE4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0F77E7-58AC-4DB2-B021-C1AE473A0EB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B95C9A-757C-44A3-9E35-FC121EC82F8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A1DD72-D507-47E3-B413-D0D4267907E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C411EB-BFD2-420C-AD09-00C7D377344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8E54BF-75E2-4254-BE3F-5708CCF27F5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EA3391-201C-4C82-9B40-EBC6A2CA614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2763FF-F554-4050-9C09-FD62D499E4A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CCDF8C-4FF5-46EB-9D17-81ECF30E7C6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CBDA61-0CE1-4702-9183-05D8681CBD1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B2C64C-5E20-4FB1-946C-7E7237E3BE4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1CC442D-3FD6-41B5-A899-7A80A6B7E31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C33E87-19DF-458F-89AE-802EADDA556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413C36-CE7A-4691-BBC2-402A7185016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C4DBB7-3E26-44F6-BBED-401E242B48F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840F8B-E482-4A66-91BB-EEEBB2F30FD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F1A5D2-5783-4C32-B74A-F2DD8B3933E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E1788A-1BC3-4E8D-AC5C-2C9B12D9858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2545F4-FACD-4560-94A3-8A5C1DC381A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163966-3479-4C3D-A402-421EBEA9437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76A11A6-9392-408A-B70A-32E40E26817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6CDC12-4851-4DD8-896E-1264A3A440D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D40FEF-4DD9-4B26-A0D2-16EE8BBD997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F9A48E-B786-42C4-B694-16D4A085A9E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D96F05-E0FB-4BB2-8184-1530F9C09BA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7E04BF-DCFE-4597-96CB-D4EF1C8D2C0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DD59DC-715B-4116-BF6A-1AC2D0F9E1E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7D1361-71A7-43A2-ABF6-3B8C31F83BE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C559D8-8AAB-469F-B8CE-F222A8FAF3A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06A689-85ED-4077-803C-167A9ABBF35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83EA43-7A30-43A6-953E-0C94E681B21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20462F-6D7D-4E26-AC9B-B1F76A5650B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448F94-FE21-45FE-B269-68633BEC71D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2BE929-6DDB-425C-8D7C-EA471DE10B6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037D6D-4FB2-490C-A33E-839C3704667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7236A81-9D97-4E81-9252-032B3572ADB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91B07F-DAAC-4CC5-B95E-0424DC4A569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CA2854-9035-460D-AAF8-E8083EDE051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6FD2AB-24B9-4C57-8878-FB295ACFC07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ACDB7D-445F-4109-AC32-4AAD21534E8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294F38-B4FE-46F3-B7A4-659A05DC823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69E6EF-E8EE-47F0-88DA-3D9A2F28AA7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043BCD-5C76-4895-9FEC-39EC19E26AB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4E9A5F-C6C7-4FCE-B17B-AB8D6200512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6FA86E-8169-4611-970A-25435FCE9AF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E4D907-760C-4782-897B-2235CAA222D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A37EF2-C1BC-4C48-9CE8-ECC5F08CD47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B66CFD-1F1C-4490-A51D-0568643758C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51C3A3-E1CA-4A86-9007-CD1A264807F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