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C4A1B-8B1E-4F80-B153-5F338FB8C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03846-0689-4466-9F1A-9433008C4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A1028-90A6-4B6B-B545-887A18E5E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429A9-E8F7-4696-911C-0BCC7DAAF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7C84C-FF15-41A7-9CEF-B9399C6CD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67F0A-C480-4A73-A5D6-BBB3649D0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8FABD-60AB-4590-82A5-880307112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EDFB1-E1EE-4F16-9D5C-5DE6CEDD6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3DDFE-2AA9-4312-AAC6-38FA4BEC0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155AC-EA8F-4690-89AC-709FDB135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289E2-8F51-4309-A6BA-0334234F1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1F1D4-9782-46F8-A39B-F879BA372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B71C9-5C33-4715-B840-4969FE7C59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19200" y="1400040"/>
          <a:ext cx="6105600" cy="405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9200" y="1400040"/>
                    <a:ext cx="610560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3:31Z</dcterms:created>
  <dc:creator>Oliver Craemer</dc:creator>
  <dc:description/>
  <dc:language>en-US</dc:language>
  <cp:lastModifiedBy>Oliver Craemer</cp:lastModifiedBy>
  <dcterms:modified xsi:type="dcterms:W3CDTF">2005-01-06T09:23:42Z</dcterms:modified>
  <cp:revision>1</cp:revision>
  <dc:subject/>
  <dc:title>Slide 1</dc:title>
</cp:coreProperties>
</file>