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E130-23FA-4981-9C70-18BCA2BA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CC4A-8656-471A-8534-F3198D3C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B079C-8796-459B-888C-977FE0D7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7FEEC-AC53-421D-A53F-4EB4DABC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102A7-ED9B-4809-8E8F-8CA2422F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BC0AD-D721-41FE-92E8-DA35B1EA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0417F-9CAD-4E92-9E4B-CBCA3178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6B84A-939F-4967-9D2B-9C1761F9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FA251-69B9-4617-922E-413541E7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25C68-DEEB-4720-95B0-5DB433A4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888AD-837F-499C-AEE0-9EC52D97D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87CD3E-7616-4BB2-9912-2D61358CD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AB71-AA9B-4354-B94F-5A4C1D08D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0152EF-C016-4C27-97D1-0AE1213A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69F814-5F86-4FDA-9EFA-9C10F2FA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2DFF1F-4ED5-43EA-9486-2572A7C0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6ED6AC-EF4E-4709-B558-8B9C55D4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B4558E-FADD-49EF-952F-0609C596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6750F0-4D0B-4E4B-991D-6337F7E5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C3CD10-B170-459D-8FDF-49C0CE7A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819E3C-2CBA-4293-A976-51FFFBA9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30C1CF-A191-498F-BE14-2454FB63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88BFDC-CAFF-4FB2-8734-159EAF9A4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FC2B-0B66-4CB8-AE95-770C385E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722F7B-668D-42F7-8D76-E81A84CB3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3CCC1-5E6D-4553-9F89-2FA79046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793DE-0381-44A5-A779-5E584334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68312-C49D-4684-A5F8-981FCDDD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E1821-EC1C-46FE-84CE-129C069D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0CAD5-2D99-425C-87C3-5291BD7D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AE62E-17D4-42CA-ABEF-5F25F4C3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8933C-B581-41DD-9562-B7372DAE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FEE4A-5D7E-4733-8B57-1AAF2742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B86D9-4D89-45AA-8FF5-3E83318E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E91D-4FB5-424A-B7BE-F3491AF2F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97678-38C2-4315-821D-93AED4AF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AD5DA-4650-4BF4-979C-A9E2D7219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7A245-45D8-405E-94A1-A501DF623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F0EDB3-F06B-4B57-AC6B-45ADF3EA3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353D79-BC64-4ABB-9634-D9644D03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89C17-2009-4D4F-B50A-B7F734C9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996B1-375C-43F5-A64C-54CE1B79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BD5155-6C1A-4186-8F3C-2A159731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B392BD-23C2-4A3E-98D1-53A187B3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49F12-A871-42C4-B514-198FABB9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A557-FEC6-44FC-9407-8667CE24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C089D-0748-4B0B-8B4A-2230AA4C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C6D72D-CD1E-44A4-A358-02491171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048CEC-0CBD-4A5C-93E5-94FC40FE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54AD15-590D-4005-AB4D-783341E7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071B82-E61D-4B88-92AA-6BA80CA74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4FA9-C44B-434B-9F35-35D1A7EF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78D1-C0DE-434C-B6D7-4FD3239F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49CA-5326-4960-B04E-F455633A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2D3C-906F-401B-9C37-5AD10349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FB71-DF1A-4AF2-847A-A5439726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E95E-C5B0-41AA-8991-8EC3E102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C053-0246-4B0C-A8A4-42760E71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E51BF-80D3-4F56-A66C-D009104F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D1D9-A9DB-49C6-BAD8-BCF9AE83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1D14-2A8A-4DF4-991C-64F80EA91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57AD-9FF8-4880-A90F-D0470A6B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7E694-A8D3-4F35-AC2E-CE9D9640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821FB-BAD5-42C3-892B-B6B9C56A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CC38A-CA2F-4CD2-AE9A-7508AD00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60AE5-339C-4492-A26E-C109F1DD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2895D-EAED-4E92-9BDA-8C3269A8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5B9B-C281-4610-9E39-0A015445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6922E-F818-4697-94E2-C6147163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D24A0-484D-46DA-90CB-B7FDE445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585D2-3CC0-4EA1-8436-70C5BF68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BA1F4-CB4E-46B3-B1A8-CAFD12D4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86913-2401-4665-A1C2-B147A059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0BBDB-B284-4EEE-98FF-5AE217BD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EF02C-FEF6-42CE-8163-33A60CD7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3C11D-B94E-4762-B7A3-9CBA851EB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7EA5C-04D6-4467-B503-2665EA00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52906-D0EF-49C3-A92F-64DED3A5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F284-146E-4D0B-8C38-0A4B84EB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51D36-9BDA-46FC-AE66-E651FCC2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69F3B-A9C5-40AE-82BE-90439BA5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03620-D5E2-4DC0-ADE9-854E0EEE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F3830-BDD1-4CCE-8DFB-4A2713DE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5F3AE-4069-48B4-839D-3246AC85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52097-DFA2-49F1-B2A6-D62C438B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805B7-C996-4F1C-B09F-7D41F020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F7A7F-9C9B-49C7-996A-FABF6D758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3ACFC-AF26-4340-8EAE-7A78E426E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93F475-B5B1-4A97-97F6-3C2B02D98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8BB8-8676-4CBA-B428-2D47A9FF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363810-F17D-4251-BE84-D827BDD3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FE4C8B-3FD4-469C-9A34-BBA258D8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262D10-ADB0-4B2F-85BF-E9A0AED1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CBC7FE-29D5-46AE-B868-C64CF071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4B6A0E-89D5-4343-B030-9D2DB6F7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4EDF3C-0D14-4EF3-991A-B2C07454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F5FC6D-F6CC-41E0-B808-819956C2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6122DB-702C-4061-9A6A-D71075C5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BCC8D5-E34A-4406-9F3C-75774A75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53F996-5E91-4212-8823-9847E0828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CB17-75A6-4D91-AC26-1CB7B2EB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6F888B-95A1-4751-9C97-7E2180653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6B22D-678E-41D1-AF03-DBC6D10E9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54549-52A4-4886-8ABA-AE084577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EAE0B-7FCB-46C2-B1EF-9242FA61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6C0D9-D5B7-4458-91F0-522999A1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3CFC3-7946-4D52-9934-0154781C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FB2BF-C8E3-408A-8F56-6C317FD8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668B8-CC46-477D-BEDE-9EB13116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18836-C667-4BBB-A308-5094AFD8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278A0-5E35-43A9-AEEF-EA7952A8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AAD3-4271-4110-A939-2D7EFB39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0AE24-35C7-482B-AD56-2A643ACA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ABEEB-8451-4506-BE78-DBD853EA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0A457-6699-48F0-95E9-68B5D7A52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F2310-FDFC-4F25-9573-9325A7ADF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A0BEB-3146-4723-B0F6-902543BA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65010-CD32-4F23-857C-77D37E0C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60798-0966-403B-A4DE-B3EC031D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89452-BDE2-460D-8F66-75EA138A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81DA8-0D4C-4559-8B8B-AAADB64E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EC90B-2E2A-4B98-AAAD-DDCD57C4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FCCD-EFDB-4EA1-829F-04DBC0C7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98FAF-4575-46B4-A42F-9E75619D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2E54F-25CA-4120-8EFF-1AE76F33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AA62A-88D6-4C25-A144-939C46ED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BBC03-5C9D-4F8E-95E5-848A3CF34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EB73C-03AF-44A2-8333-AB446A5D5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9CE6E-49CF-474B-9335-0D878023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F8F81-80E6-4BA1-8167-ADA716DB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6F051-93E6-48A7-B7A5-819CB9C3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79EF7-E77B-452F-AEA3-CA26081B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A8DFB-659F-4E24-B19E-A251F2E1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9D65-ECC1-46ED-8086-9C15CF64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581D6-ABB5-4D09-BFB3-A2E52263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918FB-524A-4870-BDBB-98AA9824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4A076-2C75-4504-A876-AECCD783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B7784-742A-4B01-B902-806B4340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AA653-5602-4150-9146-DF91F91D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8EF13-93FB-4C3F-B219-45C7D6AFB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B3114-4253-479A-A984-F25DC03A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78408-1401-4096-BDC5-E304A86CD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83474-A1EB-406E-BA42-F286FF31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C8355-CA08-41B4-A9FC-E57BEE3A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D8DC-A7E0-48AC-B84C-0E19FFA0DEB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6777-F5F7-442A-B5CC-EC1587D86A4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53B4-359A-4E9D-8CC4-68C1A38E99C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D98D-CF00-486E-B19E-B11A7B8C5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3531-3B90-4975-8744-F2BC72A5425E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272F-7321-487E-AB03-A83C25C5B68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CE2E-3C7E-46CC-B6CA-9E53FB111CD6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A6D8-215B-4247-A440-62B17F65924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110B-20A3-4E2F-9148-BA53EFE8CEA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17D1-F1C5-466F-8A9E-7D70F8AC0E1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5AD1-0DA1-4CEE-BE42-05FF8BB859A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9932-59C8-4260-AE1C-688655534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B73A-E898-4D5C-89C6-A92584BEF78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5950-EDB8-48AA-ABA4-D478E332A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43C2-EB29-4EB1-B2ED-6B43952258E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31CB-42CB-4369-BBB7-70D370C1589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5DEC-72FD-429F-AB84-AF6B419B1DA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9A1D-D088-4C3A-A628-203E723DEC5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2BA7-4B3C-40A5-A02B-1AF9AFF0BEB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A99E-54DC-4E1D-9057-8AEAA98120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40D5-7769-47C6-9F71-EAF45531EC6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582B-4441-4F90-B317-460290BA592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5607-F682-4FBB-ABD7-ED80285122B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E18A-4E3A-4009-9033-AC3040B52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3DE1-966C-4385-98CA-092F990B935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2BE661-288E-4CE0-9182-EB60F84E84F6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33B63-EF33-4668-85C2-003101457D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732B1490-7EDF-43A4-818F-78FA86414080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117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EB7F8-7FED-4511-BA7E-0D6C251234CD}" type="slidenum">
              <a:t>3</a:t>
            </a:fld>
          </a:p>
        </p:txBody>
      </p:sp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6F8BF8-4367-4A1B-87D7-D5D15C72AE5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2BE25F0B-74C9-44B5-87A3-3FDF50896DFC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8228D-FA4A-4FDC-97CF-8BFDE7640C0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F9EFF57C-7752-4F19-9E44-E0B05FD188D6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F4172-AA82-4890-A0B8-46FC3749766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9780A908-AAB0-471E-A6D9-2250E8A435F0}" type="datetime1">
              <a:rPr lang="en-US"/>
              <a:t>07/31/26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