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A81889D-AFB3-4583-B0C1-069CF3DF2AF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DDE68E9-2C28-4A43-B23B-766B0C5588C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3DEDE3B-75BC-4E14-9E07-F71A6DB270E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88F2562-91DE-4344-A113-D68F05B7C9E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B37559C-DED3-4C9D-A2A9-8F979CBDD26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6272191-F589-47CA-A548-3DC441F6793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18A8CF5-32F4-49A8-8BAF-9F68768AF85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D8421D9-9B49-4434-B735-081AEACFE82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0E2FAC3-A2CC-4270-A33F-7EBC1EAEC0D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AF7682D-B0EC-4B6F-B015-087872CC57C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093371C-EBB6-4BF4-A84B-DB78F6D3069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C0FAFEF-D4D5-4802-9B80-1B5A8B0A381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3988400-6C8B-413B-9860-00662C7F1F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008F731-B32F-4FC5-B47B-42900B28C0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F43611C-53BB-43F9-8C23-7A3AF3CB51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1F06417-C84C-48A8-BA53-01776A39C6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A063106-3E36-4EE3-9E41-531C3613E8B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4E99FF1-41B1-4492-B7F0-D4EF7634701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659F698-18B7-43C3-BC5B-E7A1987638E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8364FB2-3B0F-4BDF-A26A-4EBABA55CA8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D50B499-6E3E-40DF-A748-F34540316E4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44B1979-C8C5-461A-93B5-6282806CC71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1E9233B-FD61-434C-AB9B-019BE0ED66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A2AFA3-265F-4530-A941-251F796123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9F7DECD-3DEB-4BA5-B15D-F15EDDDF38C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202CA7C-A16D-4B41-9ABD-49A3DD0C5CB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0EF1300-86BD-47B9-9921-8C9B964A768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3EA9F1C-B0E0-4B76-9F45-58F3842A786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0CDF53C-3CBF-4B7A-B291-C8CBC07A6E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901D498-09D4-4BD2-8A0F-064C5B13B3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A090A6-007C-427F-9769-F1BE984BFA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8D5382B-FEB2-4F48-949F-2EF50EDCA2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9BECD70-6FB9-4BDD-98BC-DBC5071B42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9C32A2-BB7C-450F-9FE9-5096DDBAAB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C67FDF-392D-4213-BB9A-C31F036B0D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0870F0-EDD6-4DEC-8452-137014DC64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74075-CB58-4138-B10E-2CAF80E3E916}"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97531-454B-4612-9020-8AEB43FCB4EA}"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3AA85C7-8B39-4F8C-A652-CD0BC7715CFA}"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97CDD7E-7DE7-41A2-BA03-67FC7B4B3694}"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771ACFE-50BA-4CF7-94D6-D2BFF4C5E5ED}"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09AAADC-7385-4D2C-A48E-F860EB531FE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5FBCFF1-E13C-47B5-AF08-C5E16B80BB84}"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31F6112-5239-4DDE-AB05-60E0DF5FD086}"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F9956B2-BA65-4011-9385-FB5BB4E9FF83}"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F529B68-F11A-47B7-B25B-A89AD8769A33}"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B92E18D-A46F-4809-A6C4-1BD4AEC1C457}"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1F3C3DB-7030-4B15-BA0D-91A01F2E606E}"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AFEE69C-59E0-4211-AAE6-AFDA0DF9C0F7}"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7788B49D-A94F-4E1C-909D-867A85ADC5A1}"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C3B3ED4-63C1-42F6-A675-C92C73924B39}"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DA52BC7-FE70-480D-8070-8A027B397418}"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9AF97E6-4757-445E-B842-6EB060A6E18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15CA819-3413-4D25-9C18-51B1B236C450}"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F9681DD-98CA-4114-9C47-4D302639DD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7273FD5-A002-477E-9D67-3198D366DC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CE75E6E-C04A-4AA2-A13E-2FCF85C35DA4}"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A0A683A-F4F0-400D-94E6-794C36F06B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362599B-A9E8-499C-97B8-8C9915A922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2EC48A7-DD52-442F-8F08-D7CA813D13CA}"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2E76C0B-091F-4036-A23F-55C086A26C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552462E-EA60-4E26-8DAA-458A4D54AD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DE4F750-7DF3-4FE3-B77E-3D6E7A424C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085902D-F987-4BEC-8B03-90217B14EE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0F8E9E5-1533-4699-BC70-B7BD6AFE1B44}"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95EAF86-4A11-4801-BCDC-40C137136C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55F80CF-9C95-4C16-B4D3-5AE2060199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51F48BC-2B3A-4F52-A9C0-35915FFEF0E3}"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51BB325-A3FF-4790-A78F-4216A267BFB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5C30A57-AA6A-4590-BBC5-4DB296715AC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785A8AD-21A0-46AD-BB5A-FEBE61AAECD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8DD042-7B3C-472F-8A6D-B557525E1C5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3C4E154-B467-4E64-982A-145E083B575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19584DF-84C2-482F-8F38-09DE5CD6BEA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B1E6C97-5777-4137-8EC4-19BEFABE7CE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3F41B44-CD0A-4C37-B53F-E88C4B05427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35D6BD6-EAB4-45D2-B8F1-4DB295B7E3B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C003739-545D-44DB-A320-F962661E5A1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AEEB960-60C4-47C5-8486-7F83A5A7E1E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BCF4330-FFCA-4921-8A2E-81A4B7B2F222}"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78FB12B-AE83-4279-8028-EFE07397DB17}"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9B9A713-421D-40E5-BE9A-1845CC5C65B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177C045-90B5-4716-B6B8-A689E0659A8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9870ADE-2DDF-49D6-A28F-001CE003EA1A}"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630B62B-87EE-4553-9CFC-2F9EDE1351D5}"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5FFA272-1662-4FA1-B2F3-778AC058265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FE8F20D-08F8-4535-87A6-C06A125B4D7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8E05581-F648-4950-872A-1A10312980E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B36F1F0-BB45-4F23-9C0E-3D028CFC04B3}"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37F7604-5CBA-4F99-9EDB-65441812A00A}"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5051567-C30E-44FB-9E68-E14CA9761F01}"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6EF1106-CF86-4527-8A69-1E43F1CEDE2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15EA3C6-8FD4-463C-AD6D-ABB4A69626A7}"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DE80D0B-7E51-4D52-A3C8-E312B56C9BBB}"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CF4633C-900F-4597-83E7-08B8B85295E9}"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4C67D47-09AD-46BD-A2C5-75EE34587DE8}"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D759FB9-6D9B-4B65-AA7A-22EBAB043742}"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16AA14D-58EC-408E-B1D6-8E9BEF8E4E98}"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C773D82-489A-4E15-A276-EECF19BEBD10}"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1DB00AC-0A51-4D19-8CD0-F9157E87DC60}"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B93AB38-DFF7-4EF7-9D95-CAC178885579}"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0B6A4E3-A140-41B0-8312-84E428DBABF6}"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4C97B9E-A59D-469C-91C3-A15999126310}"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AB42717-353D-408B-AA3E-8ADA794F2331}"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1045A77-FB0C-4CD7-87AB-A5FF00A16D32}"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353800F-8F46-44A0-95F5-25FF0326E67E}"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EF4688-B170-4146-B9F9-9BC03413CF6D}"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855E571-DAE7-4E95-BE04-54EF0D2589CC}"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C4AA892-528E-42C4-968D-00D30ADAAC09}"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2A29B62-0825-43A7-820F-51EA223F56ED}"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F33435F-8396-4968-96E7-A2FD9B84491F}"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8EF9214-A9C0-43FB-957F-FE69A67C0FF4}"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170AEBE-E0FA-4549-A3E3-2378EB4FF53C}"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AEA9E3A-9A14-4F75-B38A-8D1E78CFDC0D}"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7597DAD-A1EC-4654-95BC-F643392093C2}"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4187108-8842-422C-9990-5838B5AF8F1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A4EB496-AC49-4A34-82D5-F868000537C8}"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4FF1C51-8774-4553-98F2-A4C77911D6A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E94D1FB-B2B2-4801-AA80-3A45108A589D}"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B616F57-F6EC-4036-8480-DD55E83C59FE}"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9C3E05C-F46F-4073-BAB3-FD4A2FB347DC}"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7AB075D-A522-4C4D-843A-E6D361B51800}"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CAA8D46-C95F-45D7-A91C-C48F98F76614}"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754A16C-60D0-45CC-A878-02FB29616384}"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F4E2D87-B346-440F-BD8D-DEFBC081C8F8}"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8AD2C96-0BB6-4338-9FDA-E312BBAB9CCE}"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564172-7655-484D-BC40-255631813733}"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EA6101A-8110-49B3-A18E-7494CA446D6F}"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7B2A2DD-EDD0-4FE5-B5F3-AE4D1D585869}"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6B50603-BAD6-4511-B585-70AC3ACC1E91}"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F4401CA-D9E5-4694-B7B4-0DE373C92CEF}"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762D8B1-02A8-4679-BD3E-8D8A12C919F2}"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071E8EB-D0A8-49DE-A1CC-3F2DFB815668}"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519B25A-7439-49CC-927B-8C900CDBE193}"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62268C5-01DD-479A-BC45-F0B96EA2EC31}"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911173F7-FDE5-4E51-8E02-EEA670F6E7B2}"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1AEB1C4-04C9-4024-A589-BFA7FF126692}"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FB27EC8-C349-4073-AF61-03CD51DE07D0}"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61ED52-6A1A-4436-825C-F238E9076BD7}"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9F3CAE7-7FCB-44A7-9C9B-0FD442A85C91}"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DDBA8C8-5A66-48D3-AEE4-3BEEB22DF3A5}"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0B8578F-C7E1-40A4-B7D2-DAA5D67450AD}"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60456C-F0D5-44B4-B5A3-547F278B1DE6}"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69C9A3-60DE-4BFB-AC30-45C924AB1B0D}"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CE9F044-626E-4D75-B4E2-66033B68EDA7}"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4B9DF02-5BC1-4619-BF81-7AF50ECD74B4}"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3216501-6612-4CC1-AD59-F816A736AE7A}"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A810AE1-B0C0-4910-BF90-3E660F55F7CB}"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833370-E5A9-440D-90A3-62023A191918}"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