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04017"/>
        <c:axId val="94013557"/>
      </c:barChart>
      <c:catAx>
        <c:axId val="36304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3557"/>
        <c:crosses val="autoZero"/>
        <c:auto val="1"/>
        <c:lblAlgn val="ctr"/>
        <c:lblOffset val="100"/>
        <c:noMultiLvlLbl val="0"/>
      </c:catAx>
      <c:valAx>
        <c:axId val="94013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4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F7A-2F3E-4C8B-BC39-7C27238E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249-59B2-4E9D-9669-30A9835D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D2-DB5D-4DA3-81FD-AF597433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7BA-523B-4A00-9F91-8D2CC185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157-AFD1-40AB-8130-566FB8F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6C2-8759-4661-81F7-5E3A323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408-1C86-43F1-A592-AC39F01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7E-053B-456C-A290-22FE397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476-19E9-4BB0-A75C-920AD0B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348-2BDF-4BAD-8A84-0709838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A5F-3CE4-4C3D-BFF4-F7552C3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E78-E53F-498E-AB7A-9796010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CF2FC-B7AF-45DA-98FF-5AFBF96E66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