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05079"/>
        <c:axId val="5013272"/>
      </c:barChart>
      <c:catAx>
        <c:axId val="49905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3272"/>
        <c:crosses val="autoZero"/>
        <c:auto val="1"/>
        <c:lblAlgn val="ctr"/>
        <c:lblOffset val="100"/>
        <c:noMultiLvlLbl val="0"/>
      </c:catAx>
      <c:valAx>
        <c:axId val="5013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5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935-116C-4B9C-B53B-B46F444B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3FA-8B70-4AD4-87CF-0629954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33C-DAC9-4F7B-8351-4C0E6C1E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062-5F5D-4182-9EBA-898899A8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63B-6789-4F8D-9071-FEFDC9FC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EC7-A13A-454D-AA07-9B3CC926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A83-3A1D-4736-B44B-AD226EA6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AB6-6306-4F01-9ECF-4B1485C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C33-9C8E-4F0B-BE3E-71096BDD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DAB-C13B-4B01-834B-37820D3C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A20-C1FB-4019-92A8-347C08C2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A89-2F53-46CC-A63F-F4A25069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E7B83-76BF-4D52-AA75-ABC60881D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