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9D2744-1682-4607-8C9B-2042AC6111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9C3BB0-2D8C-4C42-9D4D-68C2A52D63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9C1D35-A538-4A6D-AD26-E3847E1238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7F2D5C-BF10-4944-8163-46FEC40EE1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81150E-C423-49BE-A4DC-E2D48FE40C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E7963F-83EC-46FD-8C9A-7BB21C7C23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6058E4-C25A-44AE-8BF2-2BFDEB50D4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586A3D-11DD-4C1F-8C9F-2A81AC4136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99FD8E-8705-4704-86BC-A7A4A3E1F7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C7FEF9-8A09-4641-A6DB-4CEB498398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80D398-CDD2-4647-9430-E95AAE2903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661FD5-FF51-4326-B361-474584C5AE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CA2D1E-4230-4671-A574-2D75696674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776E10-AD30-4FC0-B261-CD8C12FB61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197BD8-57C2-40CE-BCC0-5B8E76A69A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B4E6ABD-08E8-4B08-80A8-FB03C8CAB4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E68C2D-0B27-4D62-8EF9-5D63C4A195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185367-369E-4FB4-A14D-1D5C109B51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34EABD-ABC2-4489-8F6A-FC218E8CBC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95A553-B7D7-49D8-8153-3BB5211661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235863-A943-49D1-9858-F46907BD90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F1DECF-620A-42D8-8642-2B6367B6BD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4851C5-A70D-4CA8-9BFA-0AAC062B52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9E0771-2A9E-4EF3-97CC-F701B317F7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ABF24-99C1-4C31-847A-8273A79489E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57EF1-4DF0-4F46-AC0C-AB13CD17E80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1BE3185-AD05-4FBA-B074-8DB126FFD09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5DE11F8-A01B-4F24-B287-7DFEEA74434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407A50-D67A-4630-B027-5C10F5A0E01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9738FA-444A-4AEB-9A26-B57C14D3CFF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1EFEB3-E78D-4710-8DEB-CC74B076A69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C6C404-9B20-4E15-B6E9-D0CF3CFC27E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B7EE82-BE69-459F-B302-8A830C2E03E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130C3F-C8DB-439F-B93E-DBD457CDBC9E}"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BDAF61-B311-45BF-B870-FB8B1EC9E78A}"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F4DF19-BD09-4D98-AC09-BE85F2E4B9FE}"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859360-BEEB-4383-A1CF-06924F0A6C9B}"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328E09-0FB2-4BEC-B68A-ACB3D58E8642}"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24B9AE-54ED-4E44-A910-4FC71D97A306}"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896A0E-8DF9-46C6-BB3B-DC08D112D518}"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0E4EFD-8F01-4C72-B68D-F814A302C500}"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A39401-AD9C-4635-B08D-F2796D3B6DE1}"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876AD0-8798-4ECC-81D5-D3FC775CB3FD}"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324E7A-42B6-47C9-928F-C45ADA49689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519540-F932-406E-9CE8-3BA47481E10A}"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DF08BF-4ECA-4ED5-AA40-764FCF4B7B1C}"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59C39D-570D-48B4-853B-973206AD6501}"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912456-CBA1-4050-B091-8276B7306A66}"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50EE33-EBF5-4017-BF5F-7242AB5A3944}"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2E787E-2F4E-4670-B5FA-10C1E269DC1B}"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6674F9-DCBF-483E-BF16-54E18164A54B}"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00D314-1FF8-4B1D-A9FA-5C7344560E21}"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9AD017-4135-4DBF-AD0A-723F067F8BE4}"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EEDBDF6-F1DB-4D36-B35F-9056EEC38B66}"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31A5FE-FF11-4B61-8D81-C3EBB2F9B497}"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E6F500-07C7-4515-A96D-FD489FCDF94C}"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D8E4A6-A186-416D-BC12-8A86C39E388D}"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D73E9D-2685-4BB5-81EF-00DAE1626AA1}"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8D4C6F-254E-404C-A542-83F64CFB4C11}"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429FE6-32AF-46ED-94EA-D6A93BD5EC27}"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F4B79D-D1F2-4821-876A-93450168CA9E}"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B01C85-73FB-42B3-B30E-3EED779F1892}"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77C22A-B543-4C6B-87E3-C6CEE62677BC}"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86866C-F0FF-4F03-AFF2-D7558876FF98}"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64DF85-F700-4696-A3D6-1FA054361ECD}"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29C149-DE99-493F-B1CA-DA16B7F6B881}"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959447-ECDB-4CFF-82B8-453002ACF3D1}"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BA33E6-1F26-4EF0-85B4-EB39553F32EE}"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7A2750-EBCB-4218-9541-AECE1887F910}"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D6FD3F-2FBE-4AFA-9EDD-CFB674EB3189}"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5823AB-7FBF-4EA7-8669-A5D86905A2F1}"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1A5586-E48A-4723-BB0C-0C2C5763905A}"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129962-CDB0-4CAD-AE30-7702B0C48446}"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3EEB37-D6FF-4EC5-B23D-370FF5DD3618}"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D3C50EF-147F-4B4D-8E20-86791BD40319}"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42561B-FB99-4969-87C3-1D4D85B0ED15}"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595C62-D712-4AF7-8F27-686A208049DB}"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4088D56-3070-479E-BFB4-D7B6B7355520}"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86D143-142E-45DB-B2AB-1A6BE73B1B30}"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94F79E-A622-4B5D-9DC6-E4044C07E248}"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9ED174-D5D8-4F83-8832-CD360E4B9F84}"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21B869-8315-49AB-B41A-442982C14B25}"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4AF3B4-B366-44CF-BFB2-6DABEE1CABE3}"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EB52A9-00A0-472B-B965-D1915A8099F7}"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C9C261-AC0B-4B03-A4A3-E34A24F04370}"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8A4B7BF-B2B0-49A5-A37E-7DB63167C699}"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6BC587-7378-45EB-A228-4E3D5CAFFA13}"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37E77D-7384-4CAE-B30F-A70798037822}"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F2B3CD-DFF3-4B9F-8B5F-3CF349C8C7EB}"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4D1EE9-E681-46CC-8749-75815BE32730}"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42060E-0560-4218-9494-94D9496C92D3}"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AAFF14D-7B67-4A2F-B9CA-1CF15A67317F}"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995441-62FF-4DD6-8975-B610E304EDA2}"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A6358E-A456-42E7-A85C-BA056C8D1A9D}"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3D234C-09E2-4D93-B288-FFED6188ECD7}"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96DEBC-98BA-43A1-94A0-066DDE58C987}"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1015EA0-B20D-41D9-B108-E19F9FA32C57}"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BC0101-7C93-4E60-AF77-F94EFBF1139B}"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B68D73-390F-46C2-A6B7-7C97E9792FD1}"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09B123-49DB-4898-9E76-41AA457A9A37}"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DDEA7E-8E5B-4A92-9C31-36334F68F891}"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599C3E-72AC-4B1A-81E5-65BEF605870B}"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ECE694-CF85-4619-91C5-EB3F8C279CAC}"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D1D4EA8-164D-46D8-9151-8AED01FDC783}"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8A34A0-AB94-4E82-BAC2-8189110C00B4}"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04129D-8D61-40D2-9063-C4160C31DE21}"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1D5873-74D9-41AB-9113-C6AF028C8A6D}"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C972901-05B4-4771-A658-CC685BAA8466}"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FFF9B3-3E30-402B-B84E-37599699EDE9}"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C0FB085-3F79-4F73-A52E-BEF30EB67D9E}"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AF53B4-559A-4524-8E44-CFF69A077EB3}"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76D9CB-BE6F-4B32-871F-F2B367A019F1}"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483BA1-5E01-4FEB-9374-9ECC59622E9F}"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3CA456-7F07-49DF-B921-F82846258F83}"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C991B6-2370-4A0D-B794-7D417DA09613}"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E8E856-2E0A-4C2B-AC99-DD36146EAFDD}"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06F882-EFBB-4412-93AB-9D8E2009EEDD}"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3675F2-C826-4D18-98AD-BF24CE8776D0}"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CA12ED-93BD-4AA0-A80A-21EB6D3406E6}"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E56905-5227-4A92-B9B5-A294D71979F9}"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3474FB-2B44-4119-9681-3021A1D5B0CA}"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461299-41A1-47CD-AFBC-666D2E4A4ED5}"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384816-86F7-4C25-BA9B-87B62901D9F9}"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3F763C-7D0C-4945-80E4-8201039CE44F}"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7799AB-79F6-4B0A-B3D0-C6576DDDE576}"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F8FB83D-A08C-4533-B82D-27B24C89088D}"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7A5986-A548-4126-80BB-D2090BBA0FFA}"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868580-A74E-45C3-B455-3FB4451AB6A6}"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B797A9-9AF5-4D40-AA33-61E23FE06902}"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49A4A0-0FD0-45E3-BB73-FCB6770B8978}"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C2BDCD-3B49-4BD7-BA91-2C0D4A73C743}"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19AC3B-C058-497F-B17D-F394D0DAE283}"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C5EEF9-AFD9-48E7-AD3E-24503E8AC911}"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F03F3F-BFA5-41F8-992D-8BE4CAC1B149}"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EF3A97-82F5-415D-8C47-EDF3B4CCCF94}"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3DFA46-E9F6-42C8-9D5B-B9722D65607E}"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2044C6-41F6-4ACC-8C9D-E28198F237B6}"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6A213A-20E0-4155-B8C8-83FBD8A9C06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FFD3B4-5B8A-46D3-BD71-3C3FAEA24E44}"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F328FE-C529-49E0-9AA5-4200B321849C}"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51DEA2-5BC0-4863-8950-2EF06F548708}"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0FB724-AA4F-46AD-A3E1-5252E41EF124}"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030C2E-6F93-4B97-B2A5-3CEC2B4B8120}"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1FF3E0-AA71-4084-B8B7-641A3974BBAB}"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78EA25-93BF-4F0A-97CD-0B03E27EDF7B}"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445F24-3AB7-4ACF-9BA3-E29B81C9D6DF}"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1391EE-F3DF-4B6E-8188-1F05AACBD9F9}"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50E4DF-E42F-43BB-AD7F-9F7F94986EBA}"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79A343-3A6A-4125-BAB5-4A280CA312E0}"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610145-F038-49B9-AE0B-EB2B1ADC1E29}"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4686B3-A4FC-4DA2-8412-315CD895B21F}"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74DDE8-8668-4DC5-A589-018A0A62A20C}"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201B91-BEC9-4BA7-9638-4AB9B9705DA1}"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A5090F3-7757-4AB7-AA94-476DA97C7B45}"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1A55C9-D418-4F3C-AAA3-26F78D99ED3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52C180-9D23-411D-9C4F-8CC98D2F7E1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D4DFA2-1162-4DCB-B183-C6AB592F0A6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0ADCA1-E379-4451-9F70-EA8A5F6E15F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036897-EA8C-4449-AE27-219ABBF9E4D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045CB8-28CC-464A-A3F8-A1C7D3DA477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38E31E2-82DC-47B7-A37E-65B01E344A7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B0E943-E009-43CF-B790-E925B2D0005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90FD14-B7C0-4F79-B4B9-E9BCED0DC7E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576492-6655-44D7-B102-4C41A558697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D6C423-625A-4836-A707-1C75EC3E97F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C8F56D-89D6-4B5C-B161-F1E5796E43A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4ECF22-4738-4B53-B81F-59BFD69758E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B8A8F6-467C-456A-A932-EE220BE1430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172232-0B1B-43D0-ACD7-FCC56F05D92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2F493A-2BB7-448F-97B6-AE1732A48A7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21A21B-90B5-4028-AF51-A6481E041D0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001B6D-ECC4-4C8A-950C-1BF974F1CBF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EBA6A2-21C9-4AE3-8965-616F11D95B1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674384-296A-4EC2-87F1-B081329D6D1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89FD00-A213-4C66-8DA9-D61F334B5A4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F788A1-E68A-4E01-A941-CFD0EFC355A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3F0F73-AEF1-417C-ACB8-551A505A2F4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74F9A6-9A3C-44D0-8D33-F96694755AB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021535-9F69-4E1B-9611-47EEE40EE61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2171F2-ED67-4284-B939-0EBBE671388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904639-0822-43F7-817D-858F052B568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0FC243-E423-45B8-946F-00109C80460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CB44A7-8E15-49BC-8D66-904B497F473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BD4430-3A8B-43D0-9A4B-3E5CA96252B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E569B9-C20D-4F7C-8916-B471801D3F4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35818F-1BD5-4087-85AE-20327187484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7607EC-588B-4B13-BF4C-C5D179B63AE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44DD63-9EA4-4DB1-9905-FD0ACB78A81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1530ED-FBE3-4624-8692-AB721959827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63B535-8B6E-41FD-9A2F-74A7D477135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11AE91-C1F5-444C-8FEB-C8C28FE72EF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482D93-D2CC-428F-A564-609582C6BBF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F3673E-C659-407C-8FAE-C272EA73646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BC68A3-857C-4DDC-97C4-28A8DC38470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75F67B-2A76-4D8C-9B71-3521A1BD36F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05FBE0-D369-4759-9837-F4F33AD6352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552027-CBAF-4821-8805-98CAB32BA22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6A2AC3-5BD2-4BC8-8384-66630272B31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D9F855-7359-4449-94CD-E363A11758E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57F503-9AAC-4051-959A-377D33C3F3A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444182-985A-4C2A-BFD4-3B0B24F8CAE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9C44166-9479-4D57-9398-A8191BDB0D3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553011-9954-4483-9CE8-772E18A7BF1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30FA6A-9935-495D-98EE-C4597149221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7381C4-266F-47AC-8FAF-FCEC5457920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1FEFB5-B5E0-466B-A235-6B4E8832B87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3C6A3A-8AB7-435C-9E20-AAD07FBCCAA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FFE2A8-F1C6-4D7D-80FF-8A6A2DF16C6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71ED59-36F1-4151-9B13-4656E1C124D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AC5622-3F27-4019-939D-E6091615D03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486B322-CCE6-4613-82F3-F6B0399E8EA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57000D-9B38-42C5-8319-212BBC74E4F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6F2522-F4F4-4A44-A219-13B8AEB4FC5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E49FE0-EA5D-406A-A341-8A447E77431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CD2740-637F-4FAC-BB30-C8F965E2C24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8B6237-4345-47B7-BCC6-48741748187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21D50C-61BD-45CF-BC16-B95512530CD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924D0F-921A-4FC0-A558-0C84CA805FF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15B254-B917-421F-9708-3A2A61C686E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EA843F-54EE-4DA1-A323-5485F983818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A6A6AC-75E9-4D3E-AA39-ADBF140DA80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D4307B-B3E3-401A-B4F3-2AA3245C1AC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C1A6AD-0E52-4439-BD31-6DC927E0C19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A2D14F-D5CD-4D7B-AC3F-FB25212B405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D8BD0C-0B9A-47A5-B9FE-B45D1CB9BE9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FA69E8A-3EA8-4D49-BDC7-F8222065CE3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44CEF0-5F6E-4E7F-8B6D-C5862630F86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72B7C3-A27C-4A71-B7A5-E3127B57A21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8E2F89-984D-49C7-B3DD-48DD9AEE258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401338-AD48-4199-A751-8C1E8B5E79F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BFE97C-1D9F-4A8E-9146-35E18DED275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181EAF-2607-4DA9-8455-ECC24AF2658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1BFA0E-43D4-4C62-9B33-EB46FBECC3C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72D359-CF5D-4C07-A866-9E512612558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2F5D37-8732-4939-A652-3DDAE095CF8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895FE7-7DC8-4BC8-99AD-B7236249611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4A6A79-7519-41D6-BA99-297AB43DD54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D88544-6727-4FFC-BC0B-E7099F83451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BC0BC6-6910-4EA9-954D-B728C8714A2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