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80601"/>
        <c:axId val="59305679"/>
      </c:barChart>
      <c:catAx>
        <c:axId val="72280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05679"/>
        <c:crosses val="autoZero"/>
        <c:auto val="1"/>
        <c:lblAlgn val="ctr"/>
        <c:lblOffset val="100"/>
        <c:noMultiLvlLbl val="0"/>
      </c:catAx>
      <c:valAx>
        <c:axId val="59305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80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18A-B3AD-4ED7-8EAB-4BD898EC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260-43A2-474C-8C30-4B9D98C8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9AA-F883-4BA0-BF2E-44848E99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BE0-45C5-48E4-BE95-49994C02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D9C-932D-4A17-81B4-7A161BE4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617-209E-4453-86CB-8B978CC1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BFA-3C23-4E28-B3B4-BD7FB63B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D13-2CB6-42E9-8788-20E19C0A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C84-CF32-4A62-83D3-DDF87E32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4BD-742E-4849-85A4-93E50562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3A4-D8B1-4C99-9A58-66BED74E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F0D-1F42-41A4-AF9A-4DA286E6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BB62E-F43E-41D2-A599-05411CAB85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