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138F-B19B-49B1-807D-D263A1B34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82CA-E7BF-4942-AADB-EF395FF7F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FA44-6167-4C2C-8574-09B911A3B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3A60-4E7D-4024-9FE9-AAEFF00DD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9D63-7724-4911-B3C9-072D64431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DEC5-E4F3-43A7-96E0-2EDE8B246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4BC8-F772-4944-80E4-A8D4A283F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9F90-7EA2-44C8-9F63-77A0970D9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5B11-F08F-4ECA-B47B-51E931966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0CBE-586E-4255-80DC-CCB79875C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56B5-BA9E-47EA-9FBB-2026891EF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FF33-95D2-4C66-8595-307FAABD8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144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27120" indent="-21744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1963800" indent="-21744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1963800" indent="-21744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1963800" indent="-21744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7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lstStyle>
            <a:lvl1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7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lstStyle>
            <a:lvl1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7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lstStyle>
            <a:lvl1pPr indent="0" algn="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F8FDE653-1AF2-4DF3-BC53-457E55C4FA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3040" y="3886200"/>
            <a:ext cx="6397920" cy="17524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H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333360"/>
            <a:ext cx="6062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437440" y="3333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9280" y="63295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H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70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280" y="63295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ff3300"/>
                </a:solidFill>
                <a:latin typeface="Arial"/>
              </a:rPr>
              <a:t>H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70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74"/>
              </a:spcBef>
              <a:buClr>
                <a:srgbClr val="009999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9999"/>
                </a:solidFill>
                <a:latin typeface="Arial"/>
              </a:rPr>
              <a:t>T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6320" y="63295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H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9280" y="63295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3T08:25:05Z</dcterms:created>
  <dc:creator>Alexey Zhilin</dc:creator>
  <dc:description/>
  <dc:language>en-US</dc:language>
  <cp:lastModifiedBy>Alexey Zhilin</cp:lastModifiedBy>
  <dcterms:modified xsi:type="dcterms:W3CDTF">2004-07-21T14:36:58Z</dcterms:modified>
  <cp:revision>66</cp:revision>
  <dc:subject/>
  <dc:title>Header of the slide</dc:title>
</cp:coreProperties>
</file>