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3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etche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58"/>
                </a:solidFill>
                <a:latin typeface="Arial"/>
              </a:rPr>
              <a:t>Slide </a:t>
            </a:r>
            <a:fld id="{C485B8C0-3C19-4A98-A87E-A316E595C34D}" type="slidenum">
              <a:rPr b="0" lang="en-GB" sz="1400" spc="-1" strike="noStrike">
                <a:solidFill>
                  <a:srgbClr val="00005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90720" y="1981080"/>
            <a:ext cx="7238880" cy="1371600"/>
          </a:xfrm>
          <a:prstGeom prst="rect">
            <a:avLst/>
          </a:prstGeom>
          <a:gradFill rotWithShape="0">
            <a:gsLst>
              <a:gs pos="0">
                <a:srgbClr val="143c65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133360"/>
            <a:ext cx="6934320" cy="10666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94c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Etched01” Title Slide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give it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rem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sti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31T12:58:41Z</dcterms:modified>
  <cp:revision>29</cp:revision>
  <dc:subject/>
  <dc:title>FREE Sample Awesome PowerPoint Background Template</dc:title>
</cp:coreProperties>
</file>