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932D-C6D7-4978-ABFB-AA4DBA43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6ACD-D2F0-4382-8975-299AD62B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E82-5A5E-4956-BFE5-8EDFD8C3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633-AC68-4CD4-A077-91A0BAB0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966-C51B-4096-9F5A-17D7B63E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90D6-6024-4097-8578-6205A60C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4BC-2373-4236-A020-3E6479C9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7B84-932C-4234-AD24-55BA3086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8702-701B-435E-A2F8-DE45F8AF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F482-12C4-4AED-A3C5-038E3759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D613-1030-4F77-AAC3-2AAC1015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33D-3F6F-4D2B-9FB9-9A11F793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3CA2-B079-4373-885A-3B8523F045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rtgage-site-tools.com/products/" TargetMode="External"/><Relationship Id="rId2" Type="http://schemas.openxmlformats.org/officeDocument/2006/relationships/hyperlink" Target="http://www.mortgage-site-tools.com/products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f0f"/>
                </a:solidFill>
                <a:latin typeface="Arial"/>
              </a:rPr>
              <a:t>Online mortgage calc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9951"/>
                </a:solidFill>
                <a:latin typeface="Arial"/>
              </a:rPr>
              <a:t>by mortgage-site-tool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Easy real-estate math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mortization tables comes with each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Wide range of mortgage calculation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djustable interest compounding and payment peri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Initial values customization for any real-estat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Simple and easy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Simple inte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Installation takes only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Full Cascade Style Sheet (CSS)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Software is template driven and visual style can be completely re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Multi-language enabled (at this time only English language pack comes with distribu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Customizable currency symbol and numerical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82720" y="1600200"/>
            <a:ext cx="31860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Want more deta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413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Visit online demonstration p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8880" y="2060640"/>
            <a:ext cx="47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rtgage-site-tools.com/product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63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Place a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3240" y="3357720"/>
            <a:ext cx="44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</a:rPr>
              <a:t>http://www.mortgage-site-tools.com/ord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04044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20:43:29Z</dcterms:created>
  <dc:creator/>
  <dc:description/>
  <dc:language>en-US</dc:language>
  <cp:lastModifiedBy>Ivan</cp:lastModifiedBy>
  <dcterms:modified xsi:type="dcterms:W3CDTF">2005-04-20T22:56:31Z</dcterms:modified>
  <cp:revision>4</cp:revision>
  <dc:subject/>
  <dc:title>Online mortgage calculators presentation</dc:title>
</cp:coreProperties>
</file>