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E8A1-B5E8-4B9F-90E9-0087620C2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6343-6087-4190-8B51-EC670D35E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32BB-9534-4CEE-BE7D-56E7A76FD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9E79-0F41-498A-9717-5668F0B4D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7A590-2D79-4382-AE95-26A9B1F06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0C978-C43F-47B5-918E-06931B159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CE310-A3F8-4ED1-8143-30636CB37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CD88C-A080-4949-9BCF-498D1809C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D01BF-D1F0-441A-85C8-9BC789D16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FE966-D340-47A7-A2DB-B5781AF6F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804DD-9144-40F6-B2E5-626DD8D2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BB2E-940E-42F9-A348-F5F3ED545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7B100-E4EF-49E7-9686-5EA255E5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03E05-A20C-4349-BE01-B53C1742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3D980-7014-447E-B37E-021E14D1E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2F40C-396E-4281-97D2-732AE63FC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66B5E-820D-4E99-859A-79846B8E4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FB97-5663-4400-A47F-1B85094E5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CC22-752D-4FDA-A365-7D151317B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3091-51C7-4551-8315-F00C22EE4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9958-8CCF-438D-937E-14259E93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CD05-C20E-4429-A871-C5E33341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071E-D885-4A5C-ABC7-C74BB52B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F798-7357-441A-8D9F-D41EA686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53CD0-7C5F-4A59-BDDB-53256AD59E68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5684B-4136-4AEB-A694-F3968B8AD4CD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4c2b"/>
                </a:solidFill>
                <a:latin typeface="Times New Roman"/>
              </a:rPr>
              <a:t>Least Square Fitting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Times New Roman"/>
              </a:rPr>
              <a:t>finding the best fitting curve to a given set of points</a:t>
            </a:r>
            <a:r>
              <a:rPr b="0" lang="de-DE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763640" y="3429000"/>
            <a:ext cx="492444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4c2b"/>
                </a:solidFill>
                <a:latin typeface="Times New Roman"/>
              </a:rPr>
              <a:t>Least Square Fitting (Linear)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755640" y="1773360"/>
                <a:ext cx="20876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684360" y="2421000"/>
                <a:ext cx="45352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725400" y="3244680"/>
                <a:ext cx="438156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755640" y="4005360"/>
                <a:ext cx="468000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a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700200" y="4797360"/>
                <a:ext cx="227484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4c2b"/>
                </a:solidFill>
                <a:latin typeface="Times New Roman"/>
              </a:rPr>
              <a:t>Least Square Fitting (3 Dimensions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90400" y="1773360"/>
                <a:ext cx="18288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11280" y="2421000"/>
                <a:ext cx="6172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c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611280" y="3174840"/>
                <a:ext cx="570204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684360" y="3933720"/>
                <a:ext cx="741672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33520" y="4797360"/>
                <a:ext cx="31017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4c2b"/>
                </a:solidFill>
                <a:latin typeface="Times New Roman"/>
              </a:rPr>
              <a:t>Least Square Fitting (4 Dimensions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116000" y="4043520"/>
                <a:ext cx="4392720" cy="13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187280" y="2254320"/>
                <a:ext cx="439272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9T07:36:10Z</dcterms:created>
  <dc:creator>epsi</dc:creator>
  <dc:description/>
  <dc:language>en-US</dc:language>
  <cp:lastModifiedBy>Customer</cp:lastModifiedBy>
  <dcterms:modified xsi:type="dcterms:W3CDTF">2005-05-07T18:16:01Z</dcterms:modified>
  <cp:revision>13</cp:revision>
  <dc:subject/>
  <dc:title>Trend Cyclic</dc:title>
</cp:coreProperties>
</file>