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12795"/>
        <c:axId val="81981990"/>
      </c:barChart>
      <c:catAx>
        <c:axId val="980127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81990"/>
        <c:crosses val="autoZero"/>
        <c:auto val="1"/>
        <c:lblAlgn val="ctr"/>
        <c:lblOffset val="100"/>
        <c:noMultiLvlLbl val="0"/>
      </c:catAx>
      <c:valAx>
        <c:axId val="81981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127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8392-69C4-407F-BB0E-2EFB2BDA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9CC1-1540-46F0-84E9-F7EC849E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EF16-B079-407C-9F40-05D041A2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8C3-7518-4858-A800-893B6BDE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3DD-2C15-48DA-948A-643A53C6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2B91-882E-4A6A-915C-89D447AF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FD21-EC0D-453F-AA1F-06FCF04E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478-99C7-4EB8-A6C1-A6F06837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87A3-8504-4A11-886A-14AD3C0B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D05A-B4F2-40DA-80D3-C76567FF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D4F6-FD5D-41C1-8EF8-2295E113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DCCD-EBE5-4F9B-AD11-1DAE86AB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C2EA2-AC80-4374-A44F-781B7F7071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