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37670"/>
        <c:axId val="18153665"/>
      </c:barChart>
      <c:catAx>
        <c:axId val="49376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153665"/>
        <c:crosses val="autoZero"/>
        <c:auto val="1"/>
        <c:lblAlgn val="ctr"/>
        <c:lblOffset val="100"/>
        <c:noMultiLvlLbl val="0"/>
      </c:catAx>
      <c:valAx>
        <c:axId val="181536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376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BCF2-82FC-4A6F-8266-4A6A17C33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5D5D-988E-446E-91C6-F5A6C7DFF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BE86-EC22-4375-8DDF-A9BB8677A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25BF-2512-45DB-952C-F5A709C77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057D-E479-4E1C-AE5B-0C89C5FD6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4109-2588-46DA-A225-D7DC76614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F75A-FCB5-4433-81C6-5B2AE3078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D34A-B2A8-4572-93FE-218C1CD53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9173-F2DD-4FA8-939A-3AB010DD4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8E4A-B444-45AC-ADE3-9E0F91BD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D07E-ECC9-4D32-965E-832B2FBA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AE94-7AB2-4E1C-9327-59E99F01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80FB97-5D8A-46A6-87B5-DDF3F3260F8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