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384672"/>
        <c:axId val="27520024"/>
      </c:barChart>
      <c:catAx>
        <c:axId val="903846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20024"/>
        <c:crosses val="autoZero"/>
        <c:auto val="1"/>
        <c:lblAlgn val="ctr"/>
        <c:lblOffset val="100"/>
        <c:noMultiLvlLbl val="0"/>
      </c:catAx>
      <c:valAx>
        <c:axId val="27520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846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06F-7200-442E-B503-EDBC5E4A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6F1E-7108-440A-9424-E106BDD5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636-206B-45D1-BE67-55A03ADC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404-59F0-43D2-99A3-DC63137C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073-F15E-4576-A864-84673449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D60-921C-460E-86DD-F76DAF87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F674-FEBD-40F5-BC85-8F828076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AC7-6453-477F-864C-91CF4295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89A-2230-4610-8952-300AA0B2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DB80-9843-43E4-802A-88B3347D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F5A-58A2-442B-B31A-E2403F0D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3823-33EA-40FA-A427-E7F612D4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CAEC4-2370-421D-8B0E-D5F8305B2A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