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74930"/>
        <c:axId val="80906744"/>
      </c:barChart>
      <c:catAx>
        <c:axId val="42174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6744"/>
        <c:crosses val="autoZero"/>
        <c:auto val="1"/>
        <c:lblAlgn val="ctr"/>
        <c:lblOffset val="100"/>
        <c:noMultiLvlLbl val="0"/>
      </c:catAx>
      <c:valAx>
        <c:axId val="80906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74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007-4BE1-4983-A206-E2F29D81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04A-89F9-48EA-9F5E-991DC9D9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955-B1A2-4D45-84B9-15E7B2BA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22C-97AF-4E5D-841E-EF84FDE9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7A9-5833-40DD-8979-148E471C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7D3-2C25-44B6-B604-5B3EDC20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2A1-C05A-471F-87D5-0019B232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EB7-B852-4DCB-AA95-6571CD3D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0DB-F958-4E5A-908C-FDDBB5A6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3E1-6053-4978-B2BC-CAEB9535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407-3343-4CC4-8FC3-E6CE7D9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47B-1722-470C-B3E4-34ECB992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9E94D-BECB-42EE-B1D5-C4FDCD1DC2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