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04796"/>
        <c:axId val="41714986"/>
      </c:barChart>
      <c:catAx>
        <c:axId val="43204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14986"/>
        <c:crosses val="autoZero"/>
        <c:auto val="1"/>
        <c:lblAlgn val="ctr"/>
        <c:lblOffset val="100"/>
        <c:noMultiLvlLbl val="0"/>
      </c:catAx>
      <c:valAx>
        <c:axId val="41714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04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B64-0AF6-480E-8CB6-203A3A12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FEF-B47C-4D42-805C-CDD6F993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429-269B-4CF0-A41F-68107191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8FB-C407-4F81-BB4C-C134BF22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551-EF65-4AB3-B407-B5C23BB0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5E5-CD26-4358-A5A1-31F4F9B1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450-BC95-44AA-854A-36432257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FDC-4CB0-45D6-BDC4-FE9B3143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0A1-0116-4088-BD7F-08F60DD2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C5B-2037-4C6C-AB78-BD2A1901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A70-844E-4DD1-A11D-E9472DC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D94-B243-4A4B-8B83-4B68FC9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74EB-10D5-4D91-8908-3593A9E714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