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88081"/>
        <c:axId val="36748478"/>
      </c:barChart>
      <c:catAx>
        <c:axId val="26688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48478"/>
        <c:crosses val="autoZero"/>
        <c:auto val="1"/>
        <c:lblAlgn val="ctr"/>
        <c:lblOffset val="100"/>
        <c:noMultiLvlLbl val="0"/>
      </c:catAx>
      <c:valAx>
        <c:axId val="36748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88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802-351C-4348-BC47-1A5DA559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41C-32D2-4D59-8CEB-2132D1A0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53E-D7B0-4A87-936B-7363B90D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AC7-862F-4D14-9E5A-E85A633D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582-072A-4704-965C-C2074075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222-D439-43B1-91A7-0FB8D72A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4A7-C813-49D3-BC89-504C9138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40E-80D4-452A-B455-29735AE2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994-B2EF-44D3-B386-3BD9C43C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E08-32C2-4A80-B442-6140C642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743-B53B-4D00-900B-850AF5FB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CBE-5D7A-41CC-A15A-6D0FAF38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59346-D02F-49F7-9032-DD323D3BD7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