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23641"/>
        <c:axId val="85212355"/>
      </c:barChart>
      <c:catAx>
        <c:axId val="81723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12355"/>
        <c:crosses val="autoZero"/>
        <c:auto val="1"/>
        <c:lblAlgn val="ctr"/>
        <c:lblOffset val="100"/>
        <c:noMultiLvlLbl val="0"/>
      </c:catAx>
      <c:valAx>
        <c:axId val="85212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3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062-5BE1-4D16-A364-2CDA22D3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A3D-426A-488A-BCAD-D26B648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024-33F5-4015-8C84-98495CC5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3B8-A0B2-484C-AAB2-E5926328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F81-9CA8-45BD-8356-57D3C7B5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952-17B8-40AC-BA39-8F9918E4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DB1-B4E6-408E-9DEA-CB3995FF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47E-F798-4236-B47B-A7019621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57B-9F2E-489A-9D59-CF084D30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3C1-9855-4BBD-8344-41063BE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FD3-86CC-4E30-8FE6-FE2DD9A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6A4-3985-4276-8741-3EAE2AAA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DA1BF-FDE6-41DC-97D5-DB919966BC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