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923422"/>
        <c:axId val="3181965"/>
      </c:barChart>
      <c:catAx>
        <c:axId val="909234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1965"/>
        <c:crosses val="autoZero"/>
        <c:auto val="1"/>
        <c:lblAlgn val="ctr"/>
        <c:lblOffset val="100"/>
        <c:noMultiLvlLbl val="0"/>
      </c:catAx>
      <c:valAx>
        <c:axId val="3181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234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EF4-8FB4-40D5-B815-E3EC91C3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69AD-B0F3-4B99-AB32-2E8233A5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151D-FA7F-474A-BE28-9904069E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B72B-33D0-435F-BB87-7B21A727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8EA-617A-44B6-9B49-37354740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9DDE-B633-408E-9E22-A60291E3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D6D5-73CE-4BA1-A5DE-23B841C4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B41-5F13-45FC-AA71-99D6BF39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BED5-D2C7-4188-9DD4-8B537C42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D1D-15B4-465A-9159-49ADD73A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7205-D4B4-469F-9DAB-970434B1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D25-B0F8-4107-B059-F5C49980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B850E-D185-464E-810A-8EAF9E625B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