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61184"/>
        <c:axId val="99874915"/>
      </c:barChart>
      <c:catAx>
        <c:axId val="70961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74915"/>
        <c:crosses val="autoZero"/>
        <c:auto val="1"/>
        <c:lblAlgn val="ctr"/>
        <c:lblOffset val="100"/>
        <c:noMultiLvlLbl val="0"/>
      </c:catAx>
      <c:valAx>
        <c:axId val="99874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61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EBD-C1BD-4258-AB06-6D7E86B6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382-04E2-4A08-B14A-6B831A0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792-D452-4442-AE54-196D0AED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307-E531-4E06-BE1B-C27D9D6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00F-B653-45BE-BE49-7C4BB3E2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2E4-0811-4832-9F94-8B644B32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AF4-76EF-4063-8CB7-EE8DAF0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DE4-63A6-485F-8FEE-3956873E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059-E9DE-4574-9EC1-9AED0A61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5FC-71AE-4B72-B440-9E0ACEB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99C-EE92-423C-8947-53996DA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DA4-DAB6-4BB8-87B0-8B0F827A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57EA5-1D35-443A-8A33-2854BE2147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