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17592"/>
        <c:axId val="63777841"/>
      </c:barChart>
      <c:catAx>
        <c:axId val="95117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77841"/>
        <c:crosses val="autoZero"/>
        <c:auto val="1"/>
        <c:lblAlgn val="ctr"/>
        <c:lblOffset val="100"/>
        <c:noMultiLvlLbl val="0"/>
      </c:catAx>
      <c:valAx>
        <c:axId val="63777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7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F3B-E10A-413A-AEFF-2D749C95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668-615D-4CF6-A5B7-2574C838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7B9-A90B-47F1-8AFC-2E1B65E8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3F5-B642-4E70-88B3-497E8505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258-1868-4AB7-8C4B-FB08EF86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74F-8756-4912-99AF-CAD8FED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FE2-043E-4869-9122-8FFB868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B5F-C520-43CD-BC31-23EC3CBE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16D-F810-4ADA-8CC7-4298056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514-DA5B-447D-A782-A65A0E2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9CE-70D9-4B56-BAF3-CFB1DEA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B34-BA31-4B8D-9E05-E7C9D115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9097D-1C6F-48B2-B542-2E1AD6406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