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99183"/>
        <c:axId val="87571213"/>
      </c:barChart>
      <c:catAx>
        <c:axId val="61999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1213"/>
        <c:crosses val="autoZero"/>
        <c:auto val="1"/>
        <c:lblAlgn val="ctr"/>
        <c:lblOffset val="100"/>
        <c:noMultiLvlLbl val="0"/>
      </c:catAx>
      <c:valAx>
        <c:axId val="87571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99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558-915E-4892-A6CE-32AA2A1C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CEC-F115-4282-8E2D-EF1283C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32D-52C5-4341-A5BB-A554C7B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174-B0C7-445D-B026-06F46526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DCA-3F10-46AD-8A5E-C83B442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CF7-85DE-4C57-8007-8824E56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9D2-5432-4462-A5E9-1B82757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417-783A-4C13-B396-FAB74EDA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656-5FAC-42CC-A435-28A2C80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66C-2EC2-4B30-BE00-D2BF83D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26A-81D0-4D59-A853-865F4CF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F98-7FDF-469B-A7C8-83154D4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97497-7272-4B17-8C4F-68D359EE2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