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33577"/>
        <c:axId val="34069964"/>
      </c:barChart>
      <c:catAx>
        <c:axId val="71433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69964"/>
        <c:crosses val="autoZero"/>
        <c:auto val="1"/>
        <c:lblAlgn val="ctr"/>
        <c:lblOffset val="100"/>
        <c:noMultiLvlLbl val="0"/>
      </c:catAx>
      <c:valAx>
        <c:axId val="34069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33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2B4-27DD-4624-824F-6041A922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399-2E36-4777-B4B4-DCBE614B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E4C-AE91-46BF-B69E-AE105C81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F99-1838-434F-BA5A-32C084FC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90E-E8F1-434F-A09A-04752423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ABD-9DFE-4ABC-AC63-4C2767B7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2AF-6EFB-4191-8C48-1729F373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E3A-AA4A-499D-A0A7-A1DE9827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2C8-0383-4979-BB5E-DC23309C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E41-DDDC-4DAA-8503-234C47D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651-B68A-4400-99A2-5D0079D7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E9A-0A63-4B30-A4CC-97C9C59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37BF5-2EA6-4C99-8081-93B727AF23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