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32323"/>
        <c:axId val="20950015"/>
      </c:barChart>
      <c:catAx>
        <c:axId val="21532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50015"/>
        <c:crosses val="autoZero"/>
        <c:auto val="1"/>
        <c:lblAlgn val="ctr"/>
        <c:lblOffset val="100"/>
        <c:noMultiLvlLbl val="0"/>
      </c:catAx>
      <c:valAx>
        <c:axId val="20950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32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B17-89F2-4E34-A47B-68CAA779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472-E96F-400E-BA09-EDD97135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FBA-FED9-420F-A25B-3F42D71C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B2A-B133-428D-9C56-A51A2F9A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53D-DAA1-4A34-85E9-8CF400D9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AE4-C573-4825-867B-F0AC7EC5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A99-DBDA-4EEB-923F-6CCBCC33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2B7-80B7-4485-9287-E1C3A191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06A-EFCE-4BD4-8C48-81C13A54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940-693F-4E9B-99DF-A097C594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9FC-C95E-4FC4-AF11-38DE4A26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CEC-30DC-49DE-B544-2894F5F9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64F49-456D-4C4E-B9B9-26CC006E2A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