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83634"/>
        <c:axId val="48423071"/>
      </c:barChart>
      <c:catAx>
        <c:axId val="11883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23071"/>
        <c:crosses val="autoZero"/>
        <c:auto val="1"/>
        <c:lblAlgn val="ctr"/>
        <c:lblOffset val="100"/>
        <c:noMultiLvlLbl val="0"/>
      </c:catAx>
      <c:valAx>
        <c:axId val="48423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83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B5D-22AC-4165-B4E2-6BEF3E8A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0D0-1FFE-4FCD-91D9-1215C10C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4B9-7E12-4AF0-9A1A-008F8609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B6C-E103-442C-9EA5-F92BCF9D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A04-861F-4DFD-B4B3-53F3F458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ADC-256B-4FC1-B7DA-631EDA54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1AD-2943-4516-8570-527A5F5D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A5C-41B0-470D-9180-CBECF215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983-8653-42AD-AA9B-C90F5CED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D5E-7502-4DBD-8C60-F92D791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1D7-F92E-4AEE-AA37-255E9254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EA5-0770-44C2-90C4-ADB7CF01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C02A0-39A0-4829-AD06-F72AEFECC4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