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42973"/>
        <c:axId val="99079356"/>
      </c:barChart>
      <c:catAx>
        <c:axId val="29542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79356"/>
        <c:crosses val="autoZero"/>
        <c:auto val="1"/>
        <c:lblAlgn val="ctr"/>
        <c:lblOffset val="100"/>
        <c:noMultiLvlLbl val="0"/>
      </c:catAx>
      <c:valAx>
        <c:axId val="99079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42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4D5-A183-48A2-B60E-1ABC3F10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430-6D61-4EEE-9B6C-69114826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B4D-AE8A-4629-B620-1E257689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7D4-3788-4BCE-B262-9891BE96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CA4-D55D-4F85-8A87-3F985D5C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BFE-2AC9-46AC-9EFD-80DD5914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E5F-0C1E-4316-A5B6-651557BE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232-B613-4A07-9C28-A7690A3D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CA3-379F-4A6E-BF50-62ADA602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CB4-3F18-4A0C-8D27-8B8FFDA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73C-298D-4E4B-9839-288EB19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782-73DC-4C5A-B8A3-5E1C503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70185-BBEE-4035-BB6F-C6FD4F3BA6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