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5635"/>
        <c:axId val="43188514"/>
      </c:barChart>
      <c:catAx>
        <c:axId val="1205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88514"/>
        <c:crosses val="autoZero"/>
        <c:auto val="1"/>
        <c:lblAlgn val="ctr"/>
        <c:lblOffset val="100"/>
        <c:noMultiLvlLbl val="0"/>
      </c:catAx>
      <c:valAx>
        <c:axId val="43188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39D-F279-44C1-8990-76A84692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073-5E87-41D6-9486-41448F5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1C5-32B4-495E-85E2-D3A5CC9A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EF5-7399-400F-9233-4849C0F2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781-1BD6-4D6E-9145-3AB7981D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C11-6BF9-447F-AC5C-441EF18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99B-B39F-4793-ACEB-C2D76841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459-3C29-4031-A678-CCB1B827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450-87BC-4E3B-BBA9-CE21B7A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6EC-C83D-4173-B276-E389475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896-F9ED-4AA9-B5E5-D687D9D5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B65-27D4-48D4-B421-FF8B3F8D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4AF09-610B-4EFB-96F5-306BE55B4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