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5699174"/>
        <c:axId val="46484632"/>
      </c:barChart>
      <c:catAx>
        <c:axId val="3569917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484632"/>
        <c:crosses val="autoZero"/>
        <c:auto val="1"/>
        <c:lblAlgn val="ctr"/>
        <c:lblOffset val="100"/>
        <c:noMultiLvlLbl val="0"/>
      </c:catAx>
      <c:valAx>
        <c:axId val="4648463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69917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60742-4DE2-49D2-8E81-EC190FA03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5CCD9-AD03-4C19-B142-97D20F7B7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D4C0B-7054-4FC6-A7A0-457BBF43A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66386-B678-4675-AF13-EE3B46919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82677-E5E1-48F4-B1A3-BC35F7C9C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77FCC-9366-4A4F-8A1F-D3DEDC0B5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DCF9D-4BF2-4498-9AC9-CE8352596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FC2BB-F775-476F-972D-7D37EBD02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8FFE7-ED6A-40A9-9B5C-484B1AEE2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5A104-3F73-4EF3-B2DF-66C6C8A34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5D68C-AD02-4BE3-B299-679FF0B27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1392D-5BC6-4186-9096-17E163125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B27F87-BE59-4F77-BB1D-56652B76C72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