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62320"/>
        <c:axId val="1738892"/>
      </c:barChart>
      <c:catAx>
        <c:axId val="29662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8892"/>
        <c:crosses val="autoZero"/>
        <c:auto val="1"/>
        <c:lblAlgn val="ctr"/>
        <c:lblOffset val="100"/>
        <c:noMultiLvlLbl val="0"/>
      </c:catAx>
      <c:valAx>
        <c:axId val="1738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62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B3A-B070-4D4C-9B07-A8B7B137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C5F-BF1B-414F-A9EA-3347A707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533-BF9C-4DD3-8F72-39FBE2C6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A5D-5206-49C3-9E66-E3B83B85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EBD-CCEB-45C7-9A43-08E518B6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36E-4179-4D92-861C-28F3673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32B-4935-4487-958D-BCB3E265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88B-C75F-4C91-9B87-6123F70D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752-96F6-4082-877B-C46A9CD2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D4B-67A9-4FCB-A062-F3A89D67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643-925B-4EDE-A3E8-156BF90F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173-C373-4D89-A828-77E425A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C6E86-2F9F-4622-9F59-990C0A3226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