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3804141"/>
        <c:axId val="41959298"/>
      </c:barChart>
      <c:catAx>
        <c:axId val="8380414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1959298"/>
        <c:crosses val="autoZero"/>
        <c:auto val="1"/>
        <c:lblAlgn val="ctr"/>
        <c:lblOffset val="100"/>
        <c:noMultiLvlLbl val="0"/>
      </c:catAx>
      <c:valAx>
        <c:axId val="4195929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380414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7260C-C85D-4D2A-9ED9-6197EFD04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EEC40-5EF5-4401-8384-2A63FAF39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2FFB5-3278-4442-ABE7-A35F46D3D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05436-84F2-4D75-83B9-722496BC3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258FE-A7EC-4285-B74C-E6BB49FCC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B4114-1A7B-4D67-A3CF-8D9B6191F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889D6-A357-434A-AAF2-C1F56B0C6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A3243-C60F-4471-9E77-D7E1E5E61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5C3FA-53E3-4D98-811F-1BA4F1DBB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BF34B-4558-4FA8-BE90-808962FBE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865C8-C1EF-44CF-A114-E2BDB1AD0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AE2E7-194E-4F51-BC6A-1E02A5F0E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3D5519-3028-4CDF-A6D6-FE7DCAEE087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