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474405"/>
        <c:axId val="61947261"/>
      </c:barChart>
      <c:catAx>
        <c:axId val="604744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47261"/>
        <c:crosses val="autoZero"/>
        <c:auto val="1"/>
        <c:lblAlgn val="ctr"/>
        <c:lblOffset val="100"/>
        <c:noMultiLvlLbl val="0"/>
      </c:catAx>
      <c:valAx>
        <c:axId val="61947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744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861-F4D5-48E3-9174-3F89F95F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A42-AACA-4B92-96A3-0E9286FA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67B8-BC65-47CB-90AD-B6DD6E08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79B3-150B-47EE-9CFA-338786BC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716-1266-4C79-97D2-24591ACA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56EB-DAD6-4E0E-BF09-37B9B53E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764-6E93-476F-8264-80E35906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E3C-4A31-4CC5-BF4C-549C9301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8BB-E914-4973-A1EB-61CA16B6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46B-0577-449D-B819-1C5A20CD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7D1-ADF8-4EBA-8D01-8521A6E6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9A1C-A1FC-4934-8C60-64B68269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2EF7D-EDA0-4DA7-B254-8E951D3E50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