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585751"/>
        <c:axId val="34011192"/>
      </c:barChart>
      <c:catAx>
        <c:axId val="115857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11192"/>
        <c:crosses val="autoZero"/>
        <c:auto val="1"/>
        <c:lblAlgn val="ctr"/>
        <c:lblOffset val="100"/>
        <c:noMultiLvlLbl val="0"/>
      </c:catAx>
      <c:valAx>
        <c:axId val="340111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857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A6D3-88D2-4D89-80C5-4CC73523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12A7-3804-432B-9C7A-5B6346C7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43CA-6DB1-4261-BB02-A1C3E4FC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A702-7152-4129-A388-3FA036025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68E2-0DD2-418B-A246-EE0F4D06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38D8-E9C9-4DCD-B7D1-7216DC28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6872-240F-49E5-994A-92018008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0C20-244E-4A78-842B-E575B917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9AB1-2528-4B0E-8A05-4BB8D1E3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DF1C-6626-4378-9F62-C65C3E40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ADF5-7FE3-4C5C-A0DB-96036A10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104B-7AEF-474E-AC8E-79A034F8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83282-8E10-43E0-8483-58D33B2718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