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938"/>
        <c:axId val="23187412"/>
      </c:barChart>
      <c:catAx>
        <c:axId val="654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7412"/>
        <c:crosses val="autoZero"/>
        <c:auto val="1"/>
        <c:lblAlgn val="ctr"/>
        <c:lblOffset val="100"/>
        <c:noMultiLvlLbl val="0"/>
      </c:catAx>
      <c:valAx>
        <c:axId val="23187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468-3D32-4655-A4EB-2A652ABF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794-2ECB-4B87-BF0E-7B468A44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9D0-C168-486E-BB70-554357C7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6AB-BB8B-48A0-832D-160B7186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D3D-DD60-4061-BB2F-1F32933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967-846E-4D99-B9D7-D332DE30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B34-ADBB-4FDC-A956-F6F3204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6FC-4E6C-407A-B53E-BB110F01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98-EE6E-416F-957E-428BAEBA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564-27E8-4CA7-A909-F1D7B91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987-55CC-46C0-8EA2-278174F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84A-2185-428F-A918-5246E532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C8FFA-0D0E-4DAF-B626-3E15F8F14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