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4170"/>
        <c:axId val="23571830"/>
      </c:barChart>
      <c:catAx>
        <c:axId val="5574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71830"/>
        <c:crosses val="autoZero"/>
        <c:auto val="1"/>
        <c:lblAlgn val="ctr"/>
        <c:lblOffset val="100"/>
        <c:noMultiLvlLbl val="0"/>
      </c:catAx>
      <c:valAx>
        <c:axId val="23571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F56-A239-4655-B19A-5C2779B1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B4F-F849-4E15-AF1B-F3E8650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D96-A3E5-4A1E-836E-9AF9789B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6E6-D711-48FA-9772-05095B58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55D-8343-4657-9A4B-5A66B3C6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69B-EEF5-44F9-AB9E-623DAB7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0D9-B593-4349-A8EA-590CDF9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A94-8BC8-4B52-A303-CC142CBE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724-63C0-4DFC-B1D0-D5CB266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FAA-8FD9-4085-9206-15AD23F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6E7-4EB5-4572-9103-F02F5AC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AB4-0011-4777-B3A4-956D0258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A1163-C249-4851-A642-AA7E9F182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