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27005"/>
        <c:axId val="50648179"/>
      </c:barChart>
      <c:catAx>
        <c:axId val="18327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48179"/>
        <c:crosses val="autoZero"/>
        <c:auto val="1"/>
        <c:lblAlgn val="ctr"/>
        <c:lblOffset val="100"/>
        <c:noMultiLvlLbl val="0"/>
      </c:catAx>
      <c:valAx>
        <c:axId val="50648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7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9D9-8E1F-49B9-BBBF-D796A39A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179-1AE4-48D3-839A-B8B0D7D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770-5A8E-4A1D-84A4-9A5AF749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E66-FADC-418F-AF5F-C2DC490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CE1-3C5C-4F25-8DDA-B21E606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238-40B9-4F5A-9528-35E69559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D42-404E-4555-AF0E-5C14522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E5B-0BBC-4A0C-B762-463B694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FD8-A823-4050-AE41-345F862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5E0-C8C3-4232-9B79-7112323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9D6-8A0E-4174-B05B-9EDBCD9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55E-C76A-44DE-A00B-C5437F4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D7433-BCD2-49BF-87D6-9DD87C26B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